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media/image12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7992-390C-4338-A1F9-BEA7F33DF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9D2F-122E-40AB-AE4B-675778E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AC8E0-828A-4021-9C51-24FC413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80DF5-E3D7-465E-9013-443818C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42869-EA67-48C7-A22E-5962432D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2CFAB-FB4D-4830-BD4E-DF4F6274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7BD8E5-1B31-45B0-AF6C-A587AC88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CD47E-6FFB-40B5-AC9B-3E5C7C3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CEE4EE-2146-4655-80D3-FB081589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1C78CE-0DE1-4497-A358-63D04FB2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1E3744-F66F-45BD-8ABE-A8D894E26C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D523C-A190-4AEA-84C4-68324BE77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D1D3-0404-46E1-B7A6-8783A3A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B98E-B8BF-4733-A45C-2AAF714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500E-6B06-4D68-AB1E-EB23DCA6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D14F6-B11C-4483-93C3-6ABDFDA1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F3A0-AE17-4565-AABA-E7DBF7C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BF4EE-DDE4-4ADA-A749-5713E97E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955BA-406A-41E8-9615-75CD0D71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0A99-BE19-4BEA-ACF9-1F6B287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03CBD-58CB-4F71-BC99-6B7041A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C48D4-FBDE-42D6-9811-3EF19535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62A4D-73AA-4F8C-B7C3-AB36E07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437B-A562-4A09-80D8-04BB9AF6B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1B82D-387E-4785-AAF0-5AF4A5EC9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85847-DDD3-423D-AD5E-330D74E06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0827D-C74C-4052-99B5-EA39D4B7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598E8-6827-4565-AF3F-42507857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F0D209-BA3B-41A1-A723-9EF000F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36B30-AF47-456D-8FD9-DC09BFD9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FCFC7-2046-4CAE-9534-09A1CFC6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062CB6-51C3-4A9D-B1C1-8EA32CF7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7F974-AF00-496E-A341-0B96134C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CD1A9-8EA0-4E5B-BB82-DFAE8DB0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B7275-C194-4894-A5CD-B8C0484C41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9EAFE-7480-4986-8E97-D44E3FA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6CE103-D926-40B0-B552-34B891C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44250A-C67F-43F6-B18B-3974B7B89F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94971-EE53-4F84-BC7A-68225FAC53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0F851-0861-4D66-B410-7548E2AC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B9B58-8FE2-4E22-90A6-BA8B4655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665D0-6B76-462A-9CCE-B9A0564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7D767-C77C-4D7E-8E19-4F010746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FD578-AABE-4898-9BF5-441CE23C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897C7-4D90-4C5D-885C-1608742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E1837-FB3D-48C2-A7B9-5CD19C58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C30F4-2D3A-4685-9164-BD47304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956A7-95AB-43D5-BC72-1811628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51E64-47CE-4854-BB88-CF6F7841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51A50-1678-49A1-9839-592C7095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0ECD6-F4D7-41EA-8FA5-A339FF75E2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8AF71-ACBD-448B-AF0C-2E2489294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F647-3AE1-4843-8269-B0CC7D1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2CDB6-E5DA-4CA4-8ED5-F7CB5317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3E5AC-3F2E-44F4-AB9F-0C62E823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DFD59-3295-4219-A708-70B073EA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67056-F775-4069-8084-706C8AC2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11477-49F4-4DD3-8687-139B5BD8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4BC8A-D392-4055-84E6-71E0FDF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6EF2E-C433-4FAC-8DD8-9A33F6B6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A886-9D82-4165-95BB-466303F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261A4-66C2-4840-AC1D-189BFEF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C15BF-F104-489D-B8E3-9B86206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C6850-AAFC-4371-9ED3-AD8A2C704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5CA4A5-CDF1-4D7A-AC86-9B21CD50C4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2D14CC-43A0-4142-A7D0-9F39A463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EC7404-E440-49C7-8D23-F05C94D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1590D-17D8-4F72-AA63-402111B9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47B8D7-4B61-41DC-AAD6-8BCEA311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6AFF85-41A9-4223-8E40-7BA49B45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DEF94-3660-430F-B2B0-E23C31C8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BD482C-6CDB-4A2D-A8E9-1E3DCA78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8B4CA7-0C52-4100-A9CA-DE293887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BCA873-EBAD-4937-AD25-F01AC4A0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599953-346A-4FB2-9E7E-A54B54BB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CEAA1-49F0-426C-93BE-5845462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95684B-D9DD-47F5-993C-476BEC6EE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BCBFA6-3FA4-4A4E-A7A8-B8A67E6F9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531E9-4969-4256-8BF5-C4A269DD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12A722-29FF-493A-BB69-7839DDDA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30896B-B035-49A7-A149-FEDE2C4B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4A604D-41E5-4062-8399-88068BC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882949-96CB-4D75-B4E1-E375A169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C4CA75-9FC4-4B6D-ACC3-9457F9F0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D58657-5D78-45E1-A72A-196E1A5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E30E40-6D3B-4A79-9520-470F2C75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EDBBBA-8695-4B97-982E-AAF23C44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8C2FB9-6916-4EC0-8987-4B5045B8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A519CA-60AD-47D8-B3BC-57BF299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25978-136F-403F-88ED-51394D26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0D51C8-A064-4734-8E0A-D3CD0AE1AA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EC0F3-8A00-4E80-983D-1875660C9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13DDE-D57F-4FFF-B072-8F2D697F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C14D9-EECC-42C0-B0B4-5FA02C00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B6CB4-2AF6-4D45-8263-93453D0D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CBB98-1AF2-4334-BD28-9DC491D8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E0E00-C5BF-4C3D-94C8-2BA57C4A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EC22E-429D-4469-9D4A-2E25E136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8DC2E-15E8-485F-B991-6A24B434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5477D-6448-4AC3-A18B-5784CB4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1CC36-A7BE-43D4-8B01-005AE515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12CBF-A60F-470D-9589-7B4A551F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B9B37-BA96-4662-82EB-52EAB40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BDC1B-7747-48EE-BE1C-C520BBE8A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2FCBAC-4534-424F-93E8-2B77CC6487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BC9974-A357-491F-89FB-DAC3F3DB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CA84D2-671C-4D26-8B7D-445A43C1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98465E-79B8-4402-A1D2-F38EE928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FA2256-C45C-47C7-8BA3-68D84B3C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B9B720-69DC-4A28-AA47-11478E2E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5636B1-25EE-4A1A-ACAC-B23C725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44ED-4EBA-4946-9D5D-ED07AE1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02DED-DEB9-4684-AD11-568C804F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5F34E2-11B1-4D71-839B-D56BD24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3D64BD-E2EE-4B54-9D4D-3B529CF5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A9E84-43DB-4F55-ACC5-3280666D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FEB16B-731C-45F9-94C3-7400B9B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9DB4F5-F192-4EFC-87A6-A4E26279B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EFD35A-DC37-4FDA-BD01-C1B45A3C4D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A37B63-7251-4B32-8C52-E43278E8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13DAB3-3B3B-42A7-B5E5-2F2A614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30947C-68C7-4350-B53A-01803DCF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B727B5-08A7-4990-A2F5-E259AB68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8D63E-5E55-4FFF-86D0-F241B41C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97A97E-2808-4D33-894E-A4256B61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460418-B307-44DD-8583-45B73393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91284A-364A-40F2-B3EC-AB86BC4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0BF5D7-4D5D-4FF5-A1D8-F9CB046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F91695-A407-451D-A790-90066750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335B6B-08D8-44DC-89E6-BAA6CE6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060796-CDE2-4105-87D5-9631D4FEC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D5EFA-C493-4C40-966A-2EE2728E9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F6604-5199-4559-917E-03DDC0D7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49274-A2BC-4B42-8E15-C6E37604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E34DB-DCE9-433B-A430-E02801C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E047F-47D5-4E3A-9AFD-EA25DADD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4C4EA-C60E-4401-9F91-1262AA12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72C6E-AE74-476A-83CE-843D3E30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7CB73-1F89-4459-BDF5-D50C0AA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AA007-5B96-4B9B-BB1B-F5A84E8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C5310-756A-44D4-9FA5-A396B66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0D4FF-A961-4225-97BA-406BF713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DEA3D-C071-4ECB-83CA-703DF6B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7F8E1-4F75-45F5-A822-A573C24A0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7854CE-844D-4984-97FE-F2673EB81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F17AF-545C-4392-A031-CE92942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E211DD-3BEF-4BF4-BBD5-BBA24918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EC75BA-E677-47D9-BF72-5AFFAE7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AD006E-A7AB-4AAB-B213-CA9F164E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669A74-8FAC-48AE-ABB5-D79F4BFF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E1E42D-4020-4A66-AFE8-26F18D29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C61664-415F-49FF-8D78-039C8FA8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A97B5C-3475-4911-BCD3-4C60F5C0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81C604-2DCF-4493-922E-33FEBFCF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91E53A-9B36-4D70-9840-C6DB5247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83403B-D299-4D4E-84F1-D13F4DF4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7063C-B59B-470C-B930-E7F361D842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47031C-7351-405F-B6EE-F6B4655F4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DC6231-37F9-49FE-85F8-B3E82C6DA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8C4DBF-2CE4-4B3D-954E-3EC9A8F4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99010E-363C-4F5E-A0E5-CEF0D113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BB5244-FAE0-4CA8-842D-8BD942DC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58088A-F81A-4DD0-B846-19002F9D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8053AD-ACC0-4211-A57A-4A6EB4A1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5C3082-0595-4484-9966-45171FD1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A2ACB4-2D67-4C4B-AFCB-CB022A7A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1D0C0E0-413C-47F7-99F5-BEBEB2BF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3CA7A-19B5-4768-A81D-A2A6D59A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4DE0F9-DC78-4B82-99D9-2D5A2B9A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A2705F-1D09-4A43-B928-94452EA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61BF8C-7FA7-4DBC-BAE4-2DB821C55A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1D9E3-46EB-458B-A8D9-9F18BB8BD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A8D29-C17B-458A-A871-1AFEF224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36B46-3A5F-4329-AC40-9800960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18D05-944F-4537-8EAF-81DAF6F2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81F40-4648-4535-9266-B014B1FD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E9242-78F6-444B-BC2B-20DE8F27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A55DF-8735-48A7-AF2F-5857A05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0761A-51CF-4AEE-908C-E8C1237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0B579-596E-4559-A166-78E46A2F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D6662-00A6-4FF7-B708-724E58C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939B6-CB5C-42A5-9A6B-6EAD8FE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511CE-CFDF-475D-8682-0BB7DFB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8148F-0D38-4B7D-BF2C-C16F73354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2FB3FC-8BB3-4AAE-A87F-782CAE58A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37F57B-EB40-42FD-A7AB-363A2D6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CCF35C-9C1E-4F90-961F-E254C88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F65020-26B8-42D0-875F-B77BB3F9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1510B3-F46A-468D-8572-2583EA0C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6B7F6-097C-4A06-B3FC-1F9FDD4E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D7A8E4-08AC-45E2-86F3-AEE036E6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6EF00B-408D-43E1-AC73-0CC3A93F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768279-7C6E-4DB3-B2E0-32F4FB3C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C650D2-D514-42BE-88EF-E2BFA659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99B605-BB53-4700-8CC7-26145374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5FB39D-1A2A-4013-83D8-64A409A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8867D3-3FE7-4ED7-BA95-A46065610F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1EBED7-35B2-421A-9E0E-CD34CD596F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86963C-3DE6-442C-AABA-DF44AE29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9564526-6A87-40A5-A1E2-8959034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F914E-9A72-470F-9C73-335E0C19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D7772A-7942-4E1A-B319-B5EE9D0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083DC7-79B8-408A-B2BF-16A972AD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4977F5-FBCB-46E8-B1D1-21DCC157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AAADF20-5075-4C93-8923-823BFD8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8113EA-618D-4EB0-8D31-143C0BF0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709587-E7E8-498C-A646-740748B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03973C-9DDA-49DE-9DA2-779AA1B6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48813C-E7C8-44A4-A64B-F7F7054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798458-79B5-48F1-9AA7-15EE109F4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0DF84-3CB3-43F9-9258-CB330D6BB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6C083-3343-4A7A-B463-7ADA251E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65CA9-153C-4D2A-8464-2743981F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05CCC-3B90-4CFF-AE47-5CD47275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08524-6802-4742-8D6A-08DE6B5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A1DA3-6771-4F14-B1ED-9C00A9E6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CC13E-5E0D-4E69-9A6D-92D1B6A3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66F28-E6E8-41E2-8DA1-ADF25D0E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AB668-A19C-48C8-AD33-CE0A35B5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DFB5E-BE23-4748-B432-432DCFFF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A1D22-3729-4A9D-990E-EDA196A4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DECA8-70AA-4EEF-A075-F44E4F2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C183-D119-4581-AC02-20267AC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261F0-6B3B-44D9-9886-4C8807E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137C5-172E-48C7-8932-6F706797F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A4141-C7B9-4204-BE7E-2CAAF297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3DF41-9158-400C-B5B4-4FCB418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DFAB8-BD85-4D0F-9BBA-EFD5D35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FB409-1FAE-49F5-BBF3-D6F3825A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F3545-41A6-4751-88E1-EEDC774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259B3-1EB7-45E2-BE47-46C7B66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9080B-C362-41DD-9A1B-91BF0FAB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23DCF-1BB6-4AD3-B342-2ED3BDD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FEADF-96E1-43E8-94F0-9800A95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12872-52A0-4794-8BB0-DDD22FE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1686C-9B55-4C4E-BA1C-CE8EDB45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5E0C9-F13D-4BA4-AE70-772D95C1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DAEA6-924F-4017-B232-D9B5869D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F10B5-4C61-43EB-A1A4-58F3BC51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6DB8C-F6BF-4110-9D70-3C6CD287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9BEBB-0936-489B-ADF6-5948AE6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9BF6D-8800-47BF-AAEB-4892132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21F9A-50D3-451B-B50A-D43906B5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928AE-9E0E-477B-9549-051BE4C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B6E11-4812-4FC7-A47A-4BDB5C1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E0AC5-F86F-470B-B4F2-4BC9B8B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1DD5D-468A-419A-8745-D692F19F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BC4A3-ECE0-4188-AB76-A74D16D7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A5B7F-3C1B-4C76-9364-5D2A78A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A5BE0-5AAE-45BB-B819-3389B239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AF839-38D1-43C0-97EE-8D7D8F26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76B00-F688-4F83-AE7D-40027D22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20EAA2-0C39-403F-B2DB-498643E0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287D5-24B0-41D3-BA11-AE02B4A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9BAF1-D6BF-4FCE-BB26-2D1AC375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53605-D636-4717-9E57-9662601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02272-6A0A-44D1-9B4D-163AF08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9871A-5714-4D9A-991F-A66E30D1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D031B-9561-45DE-BF4A-EDD7EE2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9982F-979B-49FA-8D56-8C9C0328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F31203-24CD-4EA4-AB13-F15207D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48A53D-671B-4B2F-8811-907394F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EC1BA-2742-4D12-923B-640946F0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BCC0A-39C1-4EEA-A7A6-62BA516E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A0562-040B-4BFF-A48A-0C19B0E3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F9A1C-D5E1-4D07-9924-5394F899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0AE4E-081D-4DF3-8DD0-3A20396A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58C305-6E53-4D4E-9BBE-2BE86F0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F3B5B-7371-48CC-9ADA-D4DDFBA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BFFF1-E5B7-479C-BB2A-D0C48DEC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FB0A8-2575-4F8A-B24B-E14C8D7C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60DFF-45EA-4B4C-9B53-2D1960A3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FD94D-5876-4A34-9E70-A8D6C3F4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6B93B-BCF7-4DD3-B76F-5D0BBDD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772DE5-FA33-4830-8DE9-5FD8C9D5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6E334-59CC-4C97-9AF8-161D0122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1FC14-4A53-4029-A91C-217F8687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559F8-88F0-4573-B905-996B5D0E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6760F-41AC-4FEC-A177-54660823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248746-9F11-4E24-BD26-A0FC69A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2C36BD-515E-4CC5-BED9-64A6B30F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4500D9-3DC9-4295-BEE8-F1E48AAE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328D1-A337-48E2-9755-B24C34E6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F6B21-9389-4488-A535-1A3B4173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8454C-BD12-4CC7-B0CB-FD30E64D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4722D-FDE7-46BA-9981-9A984476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BC1C36-3784-46EF-A1E2-036AB0A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094483-E84C-415F-8CAF-6B225F60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88DF5E-419E-417E-AA75-598A1CA9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51BA0-312F-40FB-BC11-3AB3F8A6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F5B46-8BF8-48E7-808F-BF92C4E4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92BD83-4796-4FF1-889D-695DC72D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1BFAFC-F09C-454E-8AC4-1161B98B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EF26B-9B2A-4248-B902-BFEA58CE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BD969-0088-41CE-A760-CE3FF105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FD833-F2FF-4772-864D-EFC0831E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BA823D-4681-4915-9127-DCD8809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3C06A-3C93-4CD0-B2C9-959445B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5544D0-A5B1-4F6F-9E6C-B524144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98DC45-D505-44F7-B6F6-7C745BC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7212-381E-4981-8D30-53FFAA742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79808-C49B-422C-8C68-A0999558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9DA008-5ED7-41D1-B03A-C735EAA1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4CEB5E-2C56-498A-9641-291118E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C2897F-F65E-4644-8BCC-933C0B4B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6596BC-97BE-4387-910E-9DF1FD8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E9561-C01E-4DA2-B3C2-68728B5C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4605E7-0FEA-4116-B185-E7AA2F40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BE75E-4E25-43EE-811F-842DC8E4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47FF74-522A-49DC-A398-C1353658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9C107A-9BBC-49D2-9466-B75522D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4290-6792-4B84-879F-D5A664B7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DBFDC8-7F7B-469B-9A8D-CE1CB6D8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16F9A9-D510-446B-B35F-1B485C1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FD799B-27C9-4551-B9D8-69CAF04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32278-6C46-4351-B4C7-E9EB526A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F1360-613B-49D5-BBA3-7496CA27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10F04-C074-481F-BD65-C2503074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377F4F-2DCA-414D-93E3-EB9B1BDE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F0F7C4-20FF-4184-91EE-D18558B8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C38663-2D11-46F5-AB42-D24202B7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207252-4A17-4335-80EA-90BD124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B897-64D2-4A92-B87C-15BF79A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4321C8-5424-4487-B6C4-11EFD06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AD5B95-9D19-4F00-8851-9A658FC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155B2D-9722-4787-95AD-E740F8C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589C2E-CA77-4D58-B687-AC2D21E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2D9D80-76A5-4EAC-8CF4-0AC2E2A9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D71378-2A89-4818-B06E-13D50FF6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528B08-B6E8-4F73-ACDB-6F5D8D03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797EF8-1AD1-4FF3-86F0-A584AB03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5A60CC-543E-40DC-995A-B27F25B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67C6E-B4FB-46AC-AF58-A68D08AF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F908-C403-40CB-857D-D3B6A919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9518-BED1-4075-A174-7EC03A5D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B18883-1A97-4AF4-9693-D392EAA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F2F6CF-74D8-4C7E-AC6D-709A203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0B83E9-D336-41FE-A333-D49513FC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7F2E7C-B0E6-4A39-BE74-CAA11D4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203BAE-06B1-4FCE-A853-863C545D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F9FE66-D8EC-4578-A890-0704D50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DED1D-A794-4233-98B7-42210EEA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EDAEC5-E481-4901-A0D2-D49EACD1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0DCE1D-192E-47A7-A240-A47B771F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C56EE7-1D2A-4C7B-A25D-D424B4B7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9B7D-734A-4487-B17C-C124A95D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C4AEB4-6898-486C-A12F-2CFEEC3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377474-152A-4D86-B48E-40C5427A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53C65E-B8B0-4370-8A9E-4E90C5B1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461A49-6AF8-410B-B9A7-C5EB9552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BC00CB-45F8-41BF-AD75-92B3FFD5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9BE2BC-20F7-44B9-8170-F8E79A5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77ACBA-F4D6-49C7-B498-D74FBBF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3D21BB-8C6B-4ACF-A22F-DEE47BD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BDF9EB-4125-4B22-B45C-B4C1A4FE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4EB4A4-5D8A-45CE-9080-26AA0A2F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5FDD-6F9D-498A-832C-F86DCCDF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F1137D-816B-41B8-ADDE-85D730EC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0FB417-6356-437E-A0C7-0A44917C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8445BE-4BDD-4D90-90C5-6C104CAE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0FF358-45F1-47F8-B295-5E9F16A4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F29DAD-F53A-4835-9CFF-74C7B693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682471-3787-493F-A16C-FEC87D15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46826B-9664-4BC1-A54C-0EE1B55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CF7E0F-D473-4927-840A-31BCD4C5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0BABB4-E15C-448E-A369-9C3FAF6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89219B-E3BF-4EE8-8E12-BFFE54C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B373-90E0-4FD8-ACBC-723F72D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A3ABD8-FA46-437B-97D9-BAD8D5E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121C68-8949-4468-82D8-0A0F0147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3D4C83-50F5-4FDC-AD23-7771D167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2AEB-A62B-4D89-B357-391329FF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021C-3A92-4EB2-BD05-B3CE8E5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DDAD-430B-4C0F-ACEA-1A49845A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1BDB-3F3A-4795-B750-E1B6856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185A-80A0-4293-878F-AB2DB9E323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F5D1F-EF69-4ADC-A124-34221AB1C0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E3E1-723D-425D-9EBA-9B727555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D446B-18AB-4DDE-B7BD-47C2CC9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D8A03-2C25-4956-8BAA-D8AA300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EF850-8436-47D5-9275-7EC6CC8C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D94FA-88DD-408A-B019-242C050B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83056-D99B-4081-9F36-5E334E4D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420B4-E3E8-4312-BBAA-F4C01FB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ABECF-61DA-4078-A168-DD47612A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39AD5-201A-41F1-AD0A-E155B17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C930A-8A6A-4B70-A7D8-DA13A7CB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EDF13-5842-4A91-8B42-1333D36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D229-8C16-479D-8431-A2222562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3079D-4BB3-4499-9471-12E544797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889579-F092-449C-8466-A52CEF577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E2EDE-165F-4B26-A5E1-5F95C95A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B1139-A4C0-45E2-9162-74B8B40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412C82-0CAD-4C65-B826-A526EE26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56B945-4E92-44DB-9351-96E35A53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CCB25-48C4-4E3E-A119-5B68ABCC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2AB2B-6446-4F0A-A5EE-B77F815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FFE37-3108-4D26-8676-87A879B4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56278F-EA8E-4F76-B9E3-F64F912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AA4B-FBA7-4E5E-AD3A-CDBA950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10E497-630A-4B5D-877F-7B676FCC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F1FB2-A2E9-469A-B057-5C8ECDD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6C9618-07C8-4056-80CC-608A2D5B1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BC9BC-2C71-4900-984C-7CB696F00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8156-21CE-4E06-8590-C03B6B31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04C5-BF5E-450B-A8E6-DB2CB7A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336F-B4A2-4CFE-BFE4-FA332133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58F2-2D69-4A04-87B8-6446EFE0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5A881-0933-4385-A5AD-ADE2179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F49D-F06D-4093-8E2F-ECEC7B0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6A3DE-3761-4C07-8F2D-D7A03D86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6959-1DAC-47C6-8D87-6F7A3D9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859D-4816-49E2-9D0D-BBA52180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7141-6E8F-450F-A764-E3834F6A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F12E3-2CB1-4125-92A9-A584C689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6B99F-5309-4953-879B-A7B5052B1F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70D13-03A7-4DDB-80A3-A12ACDDB2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D688B-CB92-4D1D-8DD5-EECF2650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17904-E8A7-4470-9EA7-19F957E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A922A-A1F0-4285-86A5-43C19E1C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34CA2-D720-412A-8A0C-3D95D191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2F947-8587-436E-B0E6-AFEB52D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E8E3E-A725-4A1C-B912-E69CF936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24757-B5DE-41FA-876B-564994D3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E16D9-992E-4FA9-B5AF-C103FDAC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D015D-E15E-4C96-A790-72819DFF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A65DD-978F-4936-AB69-B4B11648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0B787-D80E-49D1-BB8F-0B865AC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21064-3996-4D74-9AE7-B179011DF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589BBF-C6D3-4CCF-903F-5C025B985E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FFB878-14C3-4082-94B4-744022E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6B31CC-47CF-4DE8-A5B6-CE23B254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85B-FD6F-4D23-BEA3-257427DD9F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950-9958-4939-A66E-C5698848DBD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4ED-7D18-4C46-AD2E-D5D45D249B2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F74B-30B7-4D6C-9EB4-E5202813474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B403-7F1E-40EB-B57B-21C13EE1CF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1A3A-5952-4732-92C0-0C959ED19FA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F0F9-0143-4573-8E5B-9B6D53BF00A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846D-81C0-4C15-9218-A27FF973065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D813-81EE-4672-BD17-05A207F147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C11C-BE36-4EF0-B5CD-FA7DA33928E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8980-B1B3-4DB6-8947-533D950B2F4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4927-4175-4F8B-A034-B895BC4777D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038-359C-4807-AF68-933808CB083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82E3-3CE8-47B2-8543-08071ED766B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D19E-4482-497C-B6E1-5DD7FCE8D62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9324-3200-4829-9DB5-3D05065A6DE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32A-4480-4C17-8FCE-CED517CC08F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08E-C25F-411B-B21C-A386D70025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65E-6F29-4E9D-989A-2722F2218B1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97D-4CBD-4F96-A863-4DC530F8E26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586E-C224-4147-A974-0D94B2CF3CA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5C3-8910-4F23-8234-1574D27B71E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256D-8938-415F-8461-E918CEC98EB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6E9-ED3B-4159-B28D-DF1D6760934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6112-FB77-42BC-96FB-8AA4D73C522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5743-5663-4F27-B686-743A77611E0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5F11-DEE9-4CF6-84B4-EEF2323960C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AC7-C1AB-4649-B0B5-155BD344B12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CAC5-2852-4577-8A3E-1D3932B15D8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DF66-5294-4936-BE05-2A3DC998D45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96D6-2CBD-45B6-B7CC-D4CCD88CFD4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909-D8C6-4CD1-A17B-94634CD9B3F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88E-6596-432B-9DDE-010BD99DF43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798B-3B88-4059-86D5-A7BB0F6932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803-C822-447B-ACFA-5F1F83921F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142-308B-4070-907D-06F2BBA5C4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250920" y="1844640"/>
            <a:ext cx="7850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求一个数的百分之几是多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百分数化分数、小数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Box 14"/>
          <p:cNvSpPr/>
          <p:nvPr/>
        </p:nvSpPr>
        <p:spPr>
          <a:xfrm>
            <a:off x="395280" y="1484280"/>
            <a:ext cx="100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城关一中和城关二中的男生人数分别占全校学生总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城关一中有学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，城关二中有学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，哪个学校的男生多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多多少人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5" name="TextBox 15"/>
          <p:cNvSpPr/>
          <p:nvPr/>
        </p:nvSpPr>
        <p:spPr>
          <a:xfrm>
            <a:off x="1692360" y="2852640"/>
            <a:ext cx="6408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城关一中男生人数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1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城关二中男生人数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1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人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＞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1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城关一中的男生多，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7" name="Picture 5" descr=""/>
          <p:cNvPicPr/>
          <p:nvPr/>
        </p:nvPicPr>
        <p:blipFill>
          <a:blip r:embed="rId1"/>
          <a:stretch/>
        </p:blipFill>
        <p:spPr>
          <a:xfrm>
            <a:off x="6621480" y="1558800"/>
            <a:ext cx="2519280" cy="2016360"/>
          </a:xfrm>
          <a:prstGeom prst="rect">
            <a:avLst/>
          </a:prstGeom>
          <a:ln w="0">
            <a:noFill/>
          </a:ln>
        </p:spPr>
      </p:pic>
      <p:sp>
        <p:nvSpPr>
          <p:cNvPr id="1738" name="TextBox 14"/>
          <p:cNvSpPr/>
          <p:nvPr/>
        </p:nvSpPr>
        <p:spPr>
          <a:xfrm>
            <a:off x="639720" y="1452600"/>
            <a:ext cx="6669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喝一杯牛奶，先喝了这杯牛奶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加满水后又喝了这杯牛奶的    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最后加满水喝完。小明喝的水多，还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牛奶多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39" name="组合 28676"/>
          <p:cNvGrpSpPr/>
          <p:nvPr/>
        </p:nvGrpSpPr>
        <p:grpSpPr>
          <a:xfrm>
            <a:off x="5651640" y="1773360"/>
            <a:ext cx="510840" cy="1005840"/>
            <a:chOff x="5651640" y="1773360"/>
            <a:chExt cx="510840" cy="1005840"/>
          </a:xfrm>
        </p:grpSpPr>
        <p:sp>
          <p:nvSpPr>
            <p:cNvPr id="1740" name="文本框 28677"/>
            <p:cNvSpPr/>
            <p:nvPr/>
          </p:nvSpPr>
          <p:spPr>
            <a:xfrm>
              <a:off x="5657760" y="2173320"/>
              <a:ext cx="504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 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1" name="文本框 28678"/>
            <p:cNvSpPr/>
            <p:nvPr/>
          </p:nvSpPr>
          <p:spPr>
            <a:xfrm>
              <a:off x="5651640" y="1773360"/>
              <a:ext cx="360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2" name="直接连接符 28679"/>
            <p:cNvSpPr/>
            <p:nvPr/>
          </p:nvSpPr>
          <p:spPr>
            <a:xfrm>
              <a:off x="5707080" y="231444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3" name="组合 28680"/>
          <p:cNvGrpSpPr/>
          <p:nvPr/>
        </p:nvGrpSpPr>
        <p:grpSpPr>
          <a:xfrm>
            <a:off x="3708360" y="3860640"/>
            <a:ext cx="4464000" cy="2021400"/>
            <a:chOff x="3708360" y="3860640"/>
            <a:chExt cx="4464000" cy="2021400"/>
          </a:xfrm>
        </p:grpSpPr>
        <p:sp>
          <p:nvSpPr>
            <p:cNvPr id="1744" name="TextBox 22"/>
            <p:cNvSpPr/>
            <p:nvPr/>
          </p:nvSpPr>
          <p:spPr>
            <a:xfrm>
              <a:off x="3708360" y="3959280"/>
              <a:ext cx="44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             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3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2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5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＞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5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小明喝的牛奶多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5" name="文本框 28682"/>
            <p:cNvSpPr/>
            <p:nvPr/>
          </p:nvSpPr>
          <p:spPr>
            <a:xfrm>
              <a:off x="4405320" y="421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6" name="文本框 28683"/>
            <p:cNvSpPr/>
            <p:nvPr/>
          </p:nvSpPr>
          <p:spPr>
            <a:xfrm>
              <a:off x="4398840" y="3860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7" name="直接连接符 28684"/>
            <p:cNvSpPr/>
            <p:nvPr/>
          </p:nvSpPr>
          <p:spPr>
            <a:xfrm>
              <a:off x="4443480" y="4280040"/>
              <a:ext cx="252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8" name="组合 28685"/>
          <p:cNvGrpSpPr/>
          <p:nvPr/>
        </p:nvGrpSpPr>
        <p:grpSpPr>
          <a:xfrm>
            <a:off x="324000" y="3860640"/>
            <a:ext cx="3671280" cy="1798560"/>
            <a:chOff x="324000" y="3860640"/>
            <a:chExt cx="3671280" cy="1798560"/>
          </a:xfrm>
        </p:grpSpPr>
        <p:sp>
          <p:nvSpPr>
            <p:cNvPr id="1749" name="AutoShape 27"/>
            <p:cNvSpPr/>
            <p:nvPr/>
          </p:nvSpPr>
          <p:spPr>
            <a:xfrm>
              <a:off x="1763640" y="3931920"/>
              <a:ext cx="2231640" cy="574560"/>
            </a:xfrm>
            <a:prstGeom prst="wedgeRoundRectCallout">
              <a:avLst>
                <a:gd name="adj1" fmla="val -64365"/>
                <a:gd name="adj2" fmla="val 339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是这样想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50" name="图片 28687" descr="49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2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3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755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56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58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59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2"/>
          <p:cNvSpPr/>
          <p:nvPr/>
        </p:nvSpPr>
        <p:spPr>
          <a:xfrm>
            <a:off x="684360" y="1557360"/>
            <a:ext cx="662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把下面各数改成百分数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3"/>
          <p:cNvSpPr/>
          <p:nvPr/>
        </p:nvSpPr>
        <p:spPr>
          <a:xfrm>
            <a:off x="1287360" y="2467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0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5"/>
          <p:cNvSpPr/>
          <p:nvPr/>
        </p:nvSpPr>
        <p:spPr>
          <a:xfrm>
            <a:off x="1422360" y="3332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TextBox 6"/>
          <p:cNvSpPr/>
          <p:nvPr/>
        </p:nvSpPr>
        <p:spPr>
          <a:xfrm>
            <a:off x="1143000" y="43988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00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TextBox 7"/>
          <p:cNvSpPr/>
          <p:nvPr/>
        </p:nvSpPr>
        <p:spPr>
          <a:xfrm>
            <a:off x="1619280" y="551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TextBox 13"/>
          <p:cNvSpPr/>
          <p:nvPr/>
        </p:nvSpPr>
        <p:spPr>
          <a:xfrm>
            <a:off x="4884840" y="2362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1" name="TextBox 17"/>
          <p:cNvSpPr/>
          <p:nvPr/>
        </p:nvSpPr>
        <p:spPr>
          <a:xfrm>
            <a:off x="4908600" y="330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TextBox 24"/>
          <p:cNvSpPr/>
          <p:nvPr/>
        </p:nvSpPr>
        <p:spPr>
          <a:xfrm>
            <a:off x="4933800" y="43257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TextBox 31"/>
          <p:cNvSpPr/>
          <p:nvPr/>
        </p:nvSpPr>
        <p:spPr>
          <a:xfrm>
            <a:off x="5013360" y="5445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TextBox 36"/>
          <p:cNvSpPr/>
          <p:nvPr/>
        </p:nvSpPr>
        <p:spPr>
          <a:xfrm>
            <a:off x="2116080" y="245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TextBox 37"/>
          <p:cNvSpPr/>
          <p:nvPr/>
        </p:nvSpPr>
        <p:spPr>
          <a:xfrm>
            <a:off x="2087640" y="3303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TextBox 38"/>
          <p:cNvSpPr/>
          <p:nvPr/>
        </p:nvSpPr>
        <p:spPr>
          <a:xfrm>
            <a:off x="2071800" y="4384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.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7" name="TextBox 39"/>
          <p:cNvSpPr/>
          <p:nvPr/>
        </p:nvSpPr>
        <p:spPr>
          <a:xfrm>
            <a:off x="2109960" y="550692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TextBox 40"/>
          <p:cNvSpPr/>
          <p:nvPr/>
        </p:nvSpPr>
        <p:spPr>
          <a:xfrm>
            <a:off x="5210280" y="2349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9" name="TextBox 41"/>
          <p:cNvSpPr/>
          <p:nvPr/>
        </p:nvSpPr>
        <p:spPr>
          <a:xfrm>
            <a:off x="5219640" y="3335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0" name="TextBox 42"/>
          <p:cNvSpPr/>
          <p:nvPr/>
        </p:nvSpPr>
        <p:spPr>
          <a:xfrm>
            <a:off x="5235480" y="4349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7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TextBox 43"/>
          <p:cNvSpPr/>
          <p:nvPr/>
        </p:nvSpPr>
        <p:spPr>
          <a:xfrm>
            <a:off x="5283360" y="5454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2" name="组合 19475"/>
          <p:cNvGrpSpPr/>
          <p:nvPr/>
        </p:nvGrpSpPr>
        <p:grpSpPr>
          <a:xfrm>
            <a:off x="4643280" y="2205000"/>
            <a:ext cx="511200" cy="815400"/>
            <a:chOff x="4643280" y="2205000"/>
            <a:chExt cx="511200" cy="815400"/>
          </a:xfrm>
        </p:grpSpPr>
        <p:sp>
          <p:nvSpPr>
            <p:cNvPr id="1503" name="文本框 19476"/>
            <p:cNvSpPr/>
            <p:nvPr/>
          </p:nvSpPr>
          <p:spPr>
            <a:xfrm>
              <a:off x="4649400" y="2560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文本框 19477"/>
            <p:cNvSpPr/>
            <p:nvPr/>
          </p:nvSpPr>
          <p:spPr>
            <a:xfrm>
              <a:off x="4643280" y="2205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5" name="直接连接符 19478"/>
            <p:cNvSpPr/>
            <p:nvPr/>
          </p:nvSpPr>
          <p:spPr>
            <a:xfrm>
              <a:off x="4687560" y="262440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6" name="组合 19479"/>
          <p:cNvGrpSpPr/>
          <p:nvPr/>
        </p:nvGrpSpPr>
        <p:grpSpPr>
          <a:xfrm>
            <a:off x="4643280" y="3141720"/>
            <a:ext cx="511200" cy="815400"/>
            <a:chOff x="4643280" y="3141720"/>
            <a:chExt cx="511200" cy="815400"/>
          </a:xfrm>
        </p:grpSpPr>
        <p:sp>
          <p:nvSpPr>
            <p:cNvPr id="1507" name="文本框 19480"/>
            <p:cNvSpPr/>
            <p:nvPr/>
          </p:nvSpPr>
          <p:spPr>
            <a:xfrm>
              <a:off x="4649400" y="34974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文本框 19481"/>
            <p:cNvSpPr/>
            <p:nvPr/>
          </p:nvSpPr>
          <p:spPr>
            <a:xfrm>
              <a:off x="4643280" y="3141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9" name="直接连接符 19482"/>
            <p:cNvSpPr/>
            <p:nvPr/>
          </p:nvSpPr>
          <p:spPr>
            <a:xfrm>
              <a:off x="4687560" y="356112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0" name="组合 19483"/>
          <p:cNvGrpSpPr/>
          <p:nvPr/>
        </p:nvGrpSpPr>
        <p:grpSpPr>
          <a:xfrm>
            <a:off x="4662360" y="4140360"/>
            <a:ext cx="511200" cy="815040"/>
            <a:chOff x="4662360" y="4140360"/>
            <a:chExt cx="511200" cy="815040"/>
          </a:xfrm>
        </p:grpSpPr>
        <p:sp>
          <p:nvSpPr>
            <p:cNvPr id="1511" name="文本框 19484"/>
            <p:cNvSpPr/>
            <p:nvPr/>
          </p:nvSpPr>
          <p:spPr>
            <a:xfrm>
              <a:off x="4668480" y="4495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2" name="文本框 19485"/>
            <p:cNvSpPr/>
            <p:nvPr/>
          </p:nvSpPr>
          <p:spPr>
            <a:xfrm>
              <a:off x="4662360" y="4140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直接连接符 19486"/>
            <p:cNvSpPr/>
            <p:nvPr/>
          </p:nvSpPr>
          <p:spPr>
            <a:xfrm>
              <a:off x="4706640" y="455940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4" name="组合 19487"/>
          <p:cNvGrpSpPr/>
          <p:nvPr/>
        </p:nvGrpSpPr>
        <p:grpSpPr>
          <a:xfrm>
            <a:off x="4638600" y="5299200"/>
            <a:ext cx="504720" cy="815040"/>
            <a:chOff x="4638600" y="5299200"/>
            <a:chExt cx="504720" cy="815040"/>
          </a:xfrm>
        </p:grpSpPr>
        <p:sp>
          <p:nvSpPr>
            <p:cNvPr id="1515" name="文本框 19488"/>
            <p:cNvSpPr/>
            <p:nvPr/>
          </p:nvSpPr>
          <p:spPr>
            <a:xfrm>
              <a:off x="4638600" y="565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6" name="文本框 19489"/>
            <p:cNvSpPr/>
            <p:nvPr/>
          </p:nvSpPr>
          <p:spPr>
            <a:xfrm>
              <a:off x="4727520" y="5299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7" name="直接连接符 19490"/>
            <p:cNvSpPr/>
            <p:nvPr/>
          </p:nvSpPr>
          <p:spPr>
            <a:xfrm>
              <a:off x="4705200" y="5717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8" name="矩形 19491"/>
          <p:cNvSpPr/>
          <p:nvPr/>
        </p:nvSpPr>
        <p:spPr>
          <a:xfrm>
            <a:off x="149508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9" name="矩形 19492"/>
          <p:cNvSpPr/>
          <p:nvPr/>
        </p:nvSpPr>
        <p:spPr>
          <a:xfrm>
            <a:off x="1711080" y="3932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0" name="矩形 19493"/>
          <p:cNvSpPr/>
          <p:nvPr/>
        </p:nvSpPr>
        <p:spPr>
          <a:xfrm>
            <a:off x="1927080" y="4148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1" name="矩形 19494"/>
          <p:cNvSpPr/>
          <p:nvPr/>
        </p:nvSpPr>
        <p:spPr>
          <a:xfrm>
            <a:off x="2142720" y="43639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4"/>
          <p:cNvSpPr/>
          <p:nvPr/>
        </p:nvSpPr>
        <p:spPr>
          <a:xfrm>
            <a:off x="679320" y="14256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春蕾小学的一项调查表明，有牙病的学生人数占全校人数的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春蕾小学共有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0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名学生，有牙病的学生有多少人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4" name="组合 20483"/>
          <p:cNvGrpSpPr/>
          <p:nvPr/>
        </p:nvGrpSpPr>
        <p:grpSpPr>
          <a:xfrm>
            <a:off x="324000" y="3213000"/>
            <a:ext cx="4692240" cy="1487520"/>
            <a:chOff x="324000" y="3213000"/>
            <a:chExt cx="4692240" cy="1487520"/>
          </a:xfrm>
        </p:grpSpPr>
        <p:pic>
          <p:nvPicPr>
            <p:cNvPr id="1525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324000" y="3285720"/>
              <a:ext cx="15238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AutoShape 27"/>
            <p:cNvSpPr/>
            <p:nvPr/>
          </p:nvSpPr>
          <p:spPr>
            <a:xfrm>
              <a:off x="1992240" y="3213000"/>
              <a:ext cx="3024000" cy="1368360"/>
            </a:xfrm>
            <a:prstGeom prst="wedgeRoundRectCallout">
              <a:avLst>
                <a:gd name="adj1" fmla="val -59712"/>
                <a:gd name="adj2" fmla="val 35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求一个数的百分之几和求一个数的几分之几，意义是一样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7" name="组合 20486"/>
          <p:cNvGrpSpPr/>
          <p:nvPr/>
        </p:nvGrpSpPr>
        <p:grpSpPr>
          <a:xfrm>
            <a:off x="4284720" y="3789360"/>
            <a:ext cx="4548240" cy="2664000"/>
            <a:chOff x="4284720" y="3789360"/>
            <a:chExt cx="4548240" cy="2664000"/>
          </a:xfrm>
        </p:grpSpPr>
        <p:pic>
          <p:nvPicPr>
            <p:cNvPr id="1528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308720" y="3789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AutoShape 27"/>
            <p:cNvSpPr/>
            <p:nvPr/>
          </p:nvSpPr>
          <p:spPr>
            <a:xfrm>
              <a:off x="4284720" y="4724280"/>
              <a:ext cx="3208320" cy="1729080"/>
            </a:xfrm>
            <a:prstGeom prst="wedgeRoundRectCallout">
              <a:avLst>
                <a:gd name="adj1" fmla="val 55787"/>
                <a:gd name="adj2" fmla="val -38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该怎样计算呢？自己先动笔试着算一算，然后和同桌交流一下你的想法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30" name="矩形 20489"/>
          <p:cNvSpPr/>
          <p:nvPr/>
        </p:nvSpPr>
        <p:spPr>
          <a:xfrm>
            <a:off x="149508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4"/>
          <p:cNvSpPr/>
          <p:nvPr/>
        </p:nvSpPr>
        <p:spPr>
          <a:xfrm>
            <a:off x="679320" y="14256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春蕾小学的一项调查表明，有牙病的学生人数占全校人数的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春蕾小学共有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0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名学生，有牙病的学生有多少人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3" name="组合 21507"/>
          <p:cNvGrpSpPr/>
          <p:nvPr/>
        </p:nvGrpSpPr>
        <p:grpSpPr>
          <a:xfrm>
            <a:off x="0" y="2876400"/>
            <a:ext cx="4578480" cy="1800360"/>
            <a:chOff x="0" y="2876400"/>
            <a:chExt cx="4578480" cy="1800360"/>
          </a:xfrm>
        </p:grpSpPr>
        <p:sp>
          <p:nvSpPr>
            <p:cNvPr id="1534" name="AutoShape 27"/>
            <p:cNvSpPr/>
            <p:nvPr/>
          </p:nvSpPr>
          <p:spPr>
            <a:xfrm>
              <a:off x="1338120" y="3092400"/>
              <a:ext cx="3240360" cy="1295280"/>
            </a:xfrm>
            <a:prstGeom prst="wedgeRoundRectCallout">
              <a:avLst>
                <a:gd name="adj1" fmla="val -59944"/>
                <a:gd name="adj2" fmla="val -115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把百分数改写成分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的分数，再直接写成小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35" name="图片 21509" descr="67"/>
            <p:cNvPicPr/>
            <p:nvPr/>
          </p:nvPicPr>
          <p:blipFill>
            <a:blip r:embed="rId1"/>
            <a:stretch/>
          </p:blipFill>
          <p:spPr>
            <a:xfrm>
              <a:off x="0" y="287640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6" name="组合 21510"/>
          <p:cNvGrpSpPr/>
          <p:nvPr/>
        </p:nvGrpSpPr>
        <p:grpSpPr>
          <a:xfrm>
            <a:off x="539640" y="4343400"/>
            <a:ext cx="4319640" cy="2197080"/>
            <a:chOff x="539640" y="4343400"/>
            <a:chExt cx="4319640" cy="2197080"/>
          </a:xfrm>
        </p:grpSpPr>
        <p:sp>
          <p:nvSpPr>
            <p:cNvPr id="1537" name="TextBox 10"/>
            <p:cNvSpPr/>
            <p:nvPr/>
          </p:nvSpPr>
          <p:spPr>
            <a:xfrm>
              <a:off x="539640" y="4343400"/>
              <a:ext cx="431964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75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2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Times New Roman"/>
                  <a:ea typeface="宋体"/>
                </a:rPr>
                <a:t>%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75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75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0.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150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答：有牙病的学生有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150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8" name="组合 21512"/>
            <p:cNvGrpSpPr/>
            <p:nvPr/>
          </p:nvGrpSpPr>
          <p:grpSpPr>
            <a:xfrm>
              <a:off x="1744560" y="4714920"/>
              <a:ext cx="847800" cy="815400"/>
              <a:chOff x="1744560" y="4714920"/>
              <a:chExt cx="847800" cy="815400"/>
            </a:xfrm>
          </p:grpSpPr>
          <p:sp>
            <p:nvSpPr>
              <p:cNvPr id="1539" name="文本框 21513"/>
              <p:cNvSpPr/>
              <p:nvPr/>
            </p:nvSpPr>
            <p:spPr>
              <a:xfrm>
                <a:off x="1744560" y="507060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cc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文本框 21514"/>
              <p:cNvSpPr/>
              <p:nvPr/>
            </p:nvSpPr>
            <p:spPr>
              <a:xfrm>
                <a:off x="1834920" y="4714920"/>
                <a:ext cx="75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cc"/>
                    </a:solidFill>
                    <a:uFillTx/>
                    <a:latin typeface="Arial"/>
                    <a:ea typeface="楷体_GB2312"/>
                  </a:rPr>
                  <a:t>2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1" name="直接连接符 21515"/>
              <p:cNvSpPr/>
              <p:nvPr/>
            </p:nvSpPr>
            <p:spPr>
              <a:xfrm>
                <a:off x="1879560" y="513396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42" name="组合 21516"/>
          <p:cNvGrpSpPr/>
          <p:nvPr/>
        </p:nvGrpSpPr>
        <p:grpSpPr>
          <a:xfrm>
            <a:off x="4716360" y="2565360"/>
            <a:ext cx="4427640" cy="1798560"/>
            <a:chOff x="4716360" y="2565360"/>
            <a:chExt cx="4427640" cy="1798560"/>
          </a:xfrm>
        </p:grpSpPr>
        <p:sp>
          <p:nvSpPr>
            <p:cNvPr id="1543" name="AutoShape 27"/>
            <p:cNvSpPr/>
            <p:nvPr/>
          </p:nvSpPr>
          <p:spPr>
            <a:xfrm>
              <a:off x="4716360" y="2636640"/>
              <a:ext cx="2998800" cy="1368360"/>
            </a:xfrm>
            <a:prstGeom prst="wedgeRoundRectCallout">
              <a:avLst>
                <a:gd name="adj1" fmla="val 60587"/>
                <a:gd name="adj2" fmla="val -17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把百分数改写成分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的分数，直接用分数乘法计算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4" name="图片 21518" descr="49"/>
            <p:cNvPicPr/>
            <p:nvPr/>
          </p:nvPicPr>
          <p:blipFill>
            <a:blip r:embed="rId2"/>
            <a:stretch/>
          </p:blipFill>
          <p:spPr>
            <a:xfrm>
              <a:off x="7715160" y="256536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5" name="组合 21519"/>
          <p:cNvGrpSpPr/>
          <p:nvPr/>
        </p:nvGrpSpPr>
        <p:grpSpPr>
          <a:xfrm>
            <a:off x="4714920" y="4156200"/>
            <a:ext cx="3960720" cy="2531880"/>
            <a:chOff x="4714920" y="4156200"/>
            <a:chExt cx="3960720" cy="2531880"/>
          </a:xfrm>
        </p:grpSpPr>
        <p:sp>
          <p:nvSpPr>
            <p:cNvPr id="1546" name="TextBox 16"/>
            <p:cNvSpPr/>
            <p:nvPr/>
          </p:nvSpPr>
          <p:spPr>
            <a:xfrm>
              <a:off x="4714920" y="4156200"/>
              <a:ext cx="3960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宋体"/>
                  <a:ea typeface="宋体"/>
                </a:rPr>
                <a:t>     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75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2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75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750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150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宋体"/>
                  <a:ea typeface="宋体"/>
                </a:rPr>
                <a:t>答：有牙病的学生有</a:t>
              </a:r>
              <a:r>
                <a:rPr b="0" i="1" lang="en-US" sz="2000" spc="-1" strike="noStrike" u="sng">
                  <a:solidFill>
                    <a:srgbClr val="0000cc"/>
                  </a:solidFill>
                  <a:uFillTx/>
                  <a:latin typeface="Arial"/>
                  <a:ea typeface="宋体"/>
                </a:rPr>
                <a:t>150</a:t>
              </a:r>
              <a:r>
                <a:rPr b="0" i="1" lang="zh-CN" sz="2000" spc="-1" strike="noStrike" u="sng">
                  <a:solidFill>
                    <a:srgbClr val="0000cc"/>
                  </a:solidFill>
                  <a:uFillTx/>
                  <a:latin typeface="宋体"/>
                  <a:ea typeface="宋体"/>
                </a:rPr>
                <a:t>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7" name="组合 21521"/>
            <p:cNvGrpSpPr/>
            <p:nvPr/>
          </p:nvGrpSpPr>
          <p:grpSpPr>
            <a:xfrm>
              <a:off x="5972400" y="4600800"/>
              <a:ext cx="847080" cy="815040"/>
              <a:chOff x="5972400" y="4600800"/>
              <a:chExt cx="847080" cy="815040"/>
            </a:xfrm>
          </p:grpSpPr>
          <p:sp>
            <p:nvSpPr>
              <p:cNvPr id="1548" name="文本框 21522"/>
              <p:cNvSpPr/>
              <p:nvPr/>
            </p:nvSpPr>
            <p:spPr>
              <a:xfrm>
                <a:off x="5972400" y="49561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cc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9" name="文本框 21523"/>
              <p:cNvSpPr/>
              <p:nvPr/>
            </p:nvSpPr>
            <p:spPr>
              <a:xfrm>
                <a:off x="6062400" y="460080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cc"/>
                    </a:solidFill>
                    <a:uFillTx/>
                    <a:latin typeface="Arial"/>
                    <a:ea typeface="楷体_GB2312"/>
                  </a:rPr>
                  <a:t>2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0" name="直接连接符 21524"/>
              <p:cNvSpPr/>
              <p:nvPr/>
            </p:nvSpPr>
            <p:spPr>
              <a:xfrm>
                <a:off x="6107040" y="5019480"/>
                <a:ext cx="36000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51" name="组合 21525"/>
            <p:cNvGrpSpPr/>
            <p:nvPr/>
          </p:nvGrpSpPr>
          <p:grpSpPr>
            <a:xfrm>
              <a:off x="6035760" y="5143680"/>
              <a:ext cx="511200" cy="815040"/>
              <a:chOff x="6035760" y="5143680"/>
              <a:chExt cx="511200" cy="815040"/>
            </a:xfrm>
          </p:grpSpPr>
          <p:sp>
            <p:nvSpPr>
              <p:cNvPr id="1552" name="文本框 21526"/>
              <p:cNvSpPr/>
              <p:nvPr/>
            </p:nvSpPr>
            <p:spPr>
              <a:xfrm>
                <a:off x="6042240" y="549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cc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3" name="文本框 21527"/>
              <p:cNvSpPr/>
              <p:nvPr/>
            </p:nvSpPr>
            <p:spPr>
              <a:xfrm>
                <a:off x="6035760" y="5143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cc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4" name="直接连接符 21528"/>
              <p:cNvSpPr/>
              <p:nvPr/>
            </p:nvSpPr>
            <p:spPr>
              <a:xfrm>
                <a:off x="6080400" y="5562720"/>
                <a:ext cx="252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组合 22530"/>
          <p:cNvGrpSpPr/>
          <p:nvPr/>
        </p:nvGrpSpPr>
        <p:grpSpPr>
          <a:xfrm>
            <a:off x="395280" y="1628640"/>
            <a:ext cx="5719680" cy="1800360"/>
            <a:chOff x="395280" y="1628640"/>
            <a:chExt cx="5719680" cy="1800360"/>
          </a:xfrm>
        </p:grpSpPr>
        <p:sp>
          <p:nvSpPr>
            <p:cNvPr id="1557" name="AutoShape 27"/>
            <p:cNvSpPr/>
            <p:nvPr/>
          </p:nvSpPr>
          <p:spPr>
            <a:xfrm>
              <a:off x="1657440" y="1792440"/>
              <a:ext cx="4457520" cy="552240"/>
            </a:xfrm>
            <a:prstGeom prst="wedgeRoundRectCallout">
              <a:avLst>
                <a:gd name="adj1" fmla="val -55092"/>
                <a:gd name="adj2" fmla="val 471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想一想，怎样把百分数化成小数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58" name="图片 22532" descr="67"/>
            <p:cNvPicPr/>
            <p:nvPr/>
          </p:nvPicPr>
          <p:blipFill>
            <a:blip r:embed="rId1"/>
            <a:stretch/>
          </p:blipFill>
          <p:spPr>
            <a:xfrm>
              <a:off x="395280" y="162864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9" name="组合 22533"/>
          <p:cNvGrpSpPr/>
          <p:nvPr/>
        </p:nvGrpSpPr>
        <p:grpSpPr>
          <a:xfrm>
            <a:off x="2124000" y="1557360"/>
            <a:ext cx="6563880" cy="2663280"/>
            <a:chOff x="2124000" y="1557360"/>
            <a:chExt cx="6563880" cy="2663280"/>
          </a:xfrm>
        </p:grpSpPr>
        <p:pic>
          <p:nvPicPr>
            <p:cNvPr id="1560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164000" y="1557360"/>
              <a:ext cx="152388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1" name="AutoShape 27"/>
            <p:cNvSpPr/>
            <p:nvPr/>
          </p:nvSpPr>
          <p:spPr>
            <a:xfrm>
              <a:off x="2124000" y="2491920"/>
              <a:ext cx="5224320" cy="1728720"/>
            </a:xfrm>
            <a:prstGeom prst="wedgeRoundRectCallout">
              <a:avLst>
                <a:gd name="adj1" fmla="val 53555"/>
                <a:gd name="adj2" fmla="val -38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可以先把百分数写成分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的分数，然后再把分数化成小数。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可以先把百分号去掉，同时把小数点向左移动两位，位数不够时，用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补足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2" name="组合 22536"/>
          <p:cNvGrpSpPr/>
          <p:nvPr/>
        </p:nvGrpSpPr>
        <p:grpSpPr>
          <a:xfrm>
            <a:off x="3851280" y="4292640"/>
            <a:ext cx="4906800" cy="1798560"/>
            <a:chOff x="3851280" y="4292640"/>
            <a:chExt cx="4906800" cy="1798560"/>
          </a:xfrm>
        </p:grpSpPr>
        <p:sp>
          <p:nvSpPr>
            <p:cNvPr id="1563" name="AutoShape 27"/>
            <p:cNvSpPr/>
            <p:nvPr/>
          </p:nvSpPr>
          <p:spPr>
            <a:xfrm>
              <a:off x="3851280" y="4364280"/>
              <a:ext cx="3719520" cy="576000"/>
            </a:xfrm>
            <a:prstGeom prst="wedgeRoundRectCallout">
              <a:avLst>
                <a:gd name="adj1" fmla="val 55462"/>
                <a:gd name="adj2" fmla="val 29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怎样把百分数化成分数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64" name="图片 22538" descr="49"/>
            <p:cNvPicPr/>
            <p:nvPr/>
          </p:nvPicPr>
          <p:blipFill>
            <a:blip r:embed="rId3"/>
            <a:stretch/>
          </p:blipFill>
          <p:spPr>
            <a:xfrm>
              <a:off x="7329240" y="429264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5" name="组合 22539"/>
          <p:cNvGrpSpPr/>
          <p:nvPr/>
        </p:nvGrpSpPr>
        <p:grpSpPr>
          <a:xfrm>
            <a:off x="179280" y="5183280"/>
            <a:ext cx="6624720" cy="1414440"/>
            <a:chOff x="179280" y="5183280"/>
            <a:chExt cx="6624720" cy="1414440"/>
          </a:xfrm>
        </p:grpSpPr>
        <p:pic>
          <p:nvPicPr>
            <p:cNvPr id="1566" name="Picture 20" descr="男天使副本"/>
            <p:cNvPicPr/>
            <p:nvPr/>
          </p:nvPicPr>
          <p:blipFill>
            <a:blip r:embed="rId4"/>
            <a:stretch/>
          </p:blipFill>
          <p:spPr>
            <a:xfrm>
              <a:off x="179280" y="5183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7" name="AutoShape 27"/>
            <p:cNvSpPr/>
            <p:nvPr/>
          </p:nvSpPr>
          <p:spPr>
            <a:xfrm>
              <a:off x="1908000" y="5183280"/>
              <a:ext cx="4896000" cy="1368360"/>
            </a:xfrm>
            <a:prstGeom prst="wedgeRoundRectCallout">
              <a:avLst>
                <a:gd name="adj1" fmla="val -56000"/>
                <a:gd name="adj2" fmla="val 35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百分数化成分数的方法：先把百分数改写成分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的分数，然后能约分的要约成最简分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4"/>
          <p:cNvSpPr/>
          <p:nvPr/>
        </p:nvSpPr>
        <p:spPr>
          <a:xfrm>
            <a:off x="628560" y="1557360"/>
            <a:ext cx="705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把下面的百分数改成小数和分数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0" name="TextBox 5"/>
          <p:cNvSpPr/>
          <p:nvPr/>
        </p:nvSpPr>
        <p:spPr>
          <a:xfrm>
            <a:off x="971640" y="2637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7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TextBox 6"/>
          <p:cNvSpPr/>
          <p:nvPr/>
        </p:nvSpPr>
        <p:spPr>
          <a:xfrm>
            <a:off x="1120680" y="40482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2" name="TextBox 7"/>
          <p:cNvSpPr/>
          <p:nvPr/>
        </p:nvSpPr>
        <p:spPr>
          <a:xfrm>
            <a:off x="949320" y="54165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TextBox 5"/>
          <p:cNvSpPr/>
          <p:nvPr/>
        </p:nvSpPr>
        <p:spPr>
          <a:xfrm>
            <a:off x="4915080" y="2608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TextBox 5"/>
          <p:cNvSpPr/>
          <p:nvPr/>
        </p:nvSpPr>
        <p:spPr>
          <a:xfrm>
            <a:off x="4803840" y="54388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6.7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5" name="组合 23560"/>
          <p:cNvGrpSpPr/>
          <p:nvPr/>
        </p:nvGrpSpPr>
        <p:grpSpPr>
          <a:xfrm>
            <a:off x="1807920" y="2470320"/>
            <a:ext cx="1600560" cy="815040"/>
            <a:chOff x="1807920" y="2470320"/>
            <a:chExt cx="1600560" cy="815040"/>
          </a:xfrm>
        </p:grpSpPr>
        <p:sp>
          <p:nvSpPr>
            <p:cNvPr id="1576" name="矩形 39"/>
            <p:cNvSpPr/>
            <p:nvPr/>
          </p:nvSpPr>
          <p:spPr>
            <a:xfrm>
              <a:off x="1807920" y="2641680"/>
              <a:ext cx="8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0.97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77" name="组合 23562"/>
            <p:cNvGrpSpPr/>
            <p:nvPr/>
          </p:nvGrpSpPr>
          <p:grpSpPr>
            <a:xfrm>
              <a:off x="2583000" y="2470320"/>
              <a:ext cx="825480" cy="815040"/>
              <a:chOff x="2583000" y="2470320"/>
              <a:chExt cx="825480" cy="815040"/>
            </a:xfrm>
          </p:grpSpPr>
          <p:sp>
            <p:nvSpPr>
              <p:cNvPr id="1578" name="文本框 23563"/>
              <p:cNvSpPr/>
              <p:nvPr/>
            </p:nvSpPr>
            <p:spPr>
              <a:xfrm>
                <a:off x="2583000" y="282564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9" name="文本框 23564"/>
              <p:cNvSpPr/>
              <p:nvPr/>
            </p:nvSpPr>
            <p:spPr>
              <a:xfrm>
                <a:off x="2651400" y="247032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9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0" name="直接连接符 23565"/>
              <p:cNvSpPr/>
              <p:nvPr/>
            </p:nvSpPr>
            <p:spPr>
              <a:xfrm>
                <a:off x="2695680" y="2889000"/>
                <a:ext cx="360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81" name="组合 23566"/>
          <p:cNvGrpSpPr/>
          <p:nvPr/>
        </p:nvGrpSpPr>
        <p:grpSpPr>
          <a:xfrm>
            <a:off x="5729040" y="2409840"/>
            <a:ext cx="1314720" cy="815400"/>
            <a:chOff x="5729040" y="2409840"/>
            <a:chExt cx="1314720" cy="815400"/>
          </a:xfrm>
        </p:grpSpPr>
        <p:sp>
          <p:nvSpPr>
            <p:cNvPr id="1582" name="矩形 47"/>
            <p:cNvSpPr/>
            <p:nvPr/>
          </p:nvSpPr>
          <p:spPr>
            <a:xfrm>
              <a:off x="5729040" y="2589120"/>
              <a:ext cx="8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0.25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3" name="组合 23568"/>
            <p:cNvGrpSpPr/>
            <p:nvPr/>
          </p:nvGrpSpPr>
          <p:grpSpPr>
            <a:xfrm>
              <a:off x="6532560" y="2409840"/>
              <a:ext cx="511200" cy="815400"/>
              <a:chOff x="6532560" y="2409840"/>
              <a:chExt cx="511200" cy="815400"/>
            </a:xfrm>
          </p:grpSpPr>
          <p:sp>
            <p:nvSpPr>
              <p:cNvPr id="1584" name="文本框 23569"/>
              <p:cNvSpPr/>
              <p:nvPr/>
            </p:nvSpPr>
            <p:spPr>
              <a:xfrm>
                <a:off x="6539040" y="27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5" name="文本框 23570"/>
              <p:cNvSpPr/>
              <p:nvPr/>
            </p:nvSpPr>
            <p:spPr>
              <a:xfrm>
                <a:off x="6532560" y="2409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6" name="直接连接符 23571"/>
              <p:cNvSpPr/>
              <p:nvPr/>
            </p:nvSpPr>
            <p:spPr>
              <a:xfrm>
                <a:off x="6577200" y="2829240"/>
                <a:ext cx="252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87" name="组合 23572"/>
          <p:cNvGrpSpPr/>
          <p:nvPr/>
        </p:nvGrpSpPr>
        <p:grpSpPr>
          <a:xfrm>
            <a:off x="1828440" y="3860640"/>
            <a:ext cx="1303560" cy="815400"/>
            <a:chOff x="1828440" y="3860640"/>
            <a:chExt cx="1303560" cy="815400"/>
          </a:xfrm>
        </p:grpSpPr>
        <p:sp>
          <p:nvSpPr>
            <p:cNvPr id="1588" name="矩形 42"/>
            <p:cNvSpPr/>
            <p:nvPr/>
          </p:nvSpPr>
          <p:spPr>
            <a:xfrm>
              <a:off x="1828440" y="4038480"/>
              <a:ext cx="8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0.08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9" name="组合 23574"/>
            <p:cNvGrpSpPr/>
            <p:nvPr/>
          </p:nvGrpSpPr>
          <p:grpSpPr>
            <a:xfrm>
              <a:off x="2627280" y="3860640"/>
              <a:ext cx="504720" cy="815400"/>
              <a:chOff x="2627280" y="3860640"/>
              <a:chExt cx="504720" cy="815400"/>
            </a:xfrm>
          </p:grpSpPr>
          <p:sp>
            <p:nvSpPr>
              <p:cNvPr id="1590" name="文本框 23575"/>
              <p:cNvSpPr/>
              <p:nvPr/>
            </p:nvSpPr>
            <p:spPr>
              <a:xfrm>
                <a:off x="2627280" y="4216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1" name="文本框 23576"/>
              <p:cNvSpPr/>
              <p:nvPr/>
            </p:nvSpPr>
            <p:spPr>
              <a:xfrm>
                <a:off x="2693880" y="38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2" name="直接连接符 23577"/>
              <p:cNvSpPr/>
              <p:nvPr/>
            </p:nvSpPr>
            <p:spPr>
              <a:xfrm>
                <a:off x="2693880" y="4279680"/>
                <a:ext cx="324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93" name="组合 23578"/>
          <p:cNvGrpSpPr/>
          <p:nvPr/>
        </p:nvGrpSpPr>
        <p:grpSpPr>
          <a:xfrm>
            <a:off x="1834560" y="5251320"/>
            <a:ext cx="1784520" cy="815040"/>
            <a:chOff x="1834560" y="5251320"/>
            <a:chExt cx="1784520" cy="815040"/>
          </a:xfrm>
        </p:grpSpPr>
        <p:sp>
          <p:nvSpPr>
            <p:cNvPr id="1594" name="矩形 44"/>
            <p:cNvSpPr/>
            <p:nvPr/>
          </p:nvSpPr>
          <p:spPr>
            <a:xfrm>
              <a:off x="1834560" y="543384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0.005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5" name="组合 23580"/>
            <p:cNvGrpSpPr/>
            <p:nvPr/>
          </p:nvGrpSpPr>
          <p:grpSpPr>
            <a:xfrm>
              <a:off x="2738520" y="5251320"/>
              <a:ext cx="880560" cy="815040"/>
              <a:chOff x="2738520" y="5251320"/>
              <a:chExt cx="880560" cy="815040"/>
            </a:xfrm>
          </p:grpSpPr>
          <p:sp>
            <p:nvSpPr>
              <p:cNvPr id="1596" name="文本框 23581"/>
              <p:cNvSpPr/>
              <p:nvPr/>
            </p:nvSpPr>
            <p:spPr>
              <a:xfrm>
                <a:off x="2738520" y="560664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2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7" name="文本框 23582"/>
              <p:cNvSpPr/>
              <p:nvPr/>
            </p:nvSpPr>
            <p:spPr>
              <a:xfrm>
                <a:off x="2862000" y="525132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98" name="直接连接符 23583"/>
              <p:cNvSpPr/>
              <p:nvPr/>
            </p:nvSpPr>
            <p:spPr>
              <a:xfrm>
                <a:off x="2850840" y="5670000"/>
                <a:ext cx="360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99" name="TextBox 5"/>
          <p:cNvSpPr/>
          <p:nvPr/>
        </p:nvSpPr>
        <p:spPr>
          <a:xfrm>
            <a:off x="4788000" y="39765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.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0" name="组合 23585"/>
          <p:cNvGrpSpPr/>
          <p:nvPr/>
        </p:nvGrpSpPr>
        <p:grpSpPr>
          <a:xfrm>
            <a:off x="5817600" y="3789360"/>
            <a:ext cx="1454760" cy="815400"/>
            <a:chOff x="5817600" y="3789360"/>
            <a:chExt cx="1454760" cy="815400"/>
          </a:xfrm>
        </p:grpSpPr>
        <p:sp>
          <p:nvSpPr>
            <p:cNvPr id="1601" name="矩形 47"/>
            <p:cNvSpPr/>
            <p:nvPr/>
          </p:nvSpPr>
          <p:spPr>
            <a:xfrm>
              <a:off x="5817600" y="396900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0.125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02" name="组合 23587"/>
            <p:cNvGrpSpPr/>
            <p:nvPr/>
          </p:nvGrpSpPr>
          <p:grpSpPr>
            <a:xfrm>
              <a:off x="6761160" y="3789360"/>
              <a:ext cx="511200" cy="815400"/>
              <a:chOff x="6761160" y="3789360"/>
              <a:chExt cx="511200" cy="815400"/>
            </a:xfrm>
          </p:grpSpPr>
          <p:sp>
            <p:nvSpPr>
              <p:cNvPr id="1603" name="文本框 23588"/>
              <p:cNvSpPr/>
              <p:nvPr/>
            </p:nvSpPr>
            <p:spPr>
              <a:xfrm>
                <a:off x="6767640" y="414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4" name="文本框 23589"/>
              <p:cNvSpPr/>
              <p:nvPr/>
            </p:nvSpPr>
            <p:spPr>
              <a:xfrm>
                <a:off x="6761160" y="378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5" name="直接连接符 23590"/>
              <p:cNvSpPr/>
              <p:nvPr/>
            </p:nvSpPr>
            <p:spPr>
              <a:xfrm>
                <a:off x="6805800" y="4208760"/>
                <a:ext cx="252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06" name="组合 23591"/>
          <p:cNvGrpSpPr/>
          <p:nvPr/>
        </p:nvGrpSpPr>
        <p:grpSpPr>
          <a:xfrm>
            <a:off x="5839920" y="5284800"/>
            <a:ext cx="1871280" cy="805680"/>
            <a:chOff x="5839920" y="5284800"/>
            <a:chExt cx="1871280" cy="805680"/>
          </a:xfrm>
        </p:grpSpPr>
        <p:sp>
          <p:nvSpPr>
            <p:cNvPr id="1607" name="矩形 50"/>
            <p:cNvSpPr/>
            <p:nvPr/>
          </p:nvSpPr>
          <p:spPr>
            <a:xfrm>
              <a:off x="5839920" y="545292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0.167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08" name="组合 23593"/>
            <p:cNvGrpSpPr/>
            <p:nvPr/>
          </p:nvGrpSpPr>
          <p:grpSpPr>
            <a:xfrm>
              <a:off x="6654600" y="5284800"/>
              <a:ext cx="1056600" cy="805680"/>
              <a:chOff x="6654600" y="5284800"/>
              <a:chExt cx="1056600" cy="805680"/>
            </a:xfrm>
          </p:grpSpPr>
          <p:sp>
            <p:nvSpPr>
              <p:cNvPr id="1609" name="文本框 23594"/>
              <p:cNvSpPr/>
              <p:nvPr/>
            </p:nvSpPr>
            <p:spPr>
              <a:xfrm>
                <a:off x="6654600" y="563076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00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0" name="文本框 23595"/>
              <p:cNvSpPr/>
              <p:nvPr/>
            </p:nvSpPr>
            <p:spPr>
              <a:xfrm>
                <a:off x="6735240" y="5284800"/>
                <a:ext cx="97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6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1" name="直接连接符 23596"/>
              <p:cNvSpPr/>
              <p:nvPr/>
            </p:nvSpPr>
            <p:spPr>
              <a:xfrm>
                <a:off x="6779880" y="5694480"/>
                <a:ext cx="502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图片 24577" descr="82"/>
          <p:cNvPicPr/>
          <p:nvPr/>
        </p:nvPicPr>
        <p:blipFill>
          <a:blip r:embed="rId1"/>
          <a:stretch/>
        </p:blipFill>
        <p:spPr>
          <a:xfrm>
            <a:off x="290520" y="2556000"/>
            <a:ext cx="7305840" cy="3238200"/>
          </a:xfrm>
          <a:prstGeom prst="rect">
            <a:avLst/>
          </a:prstGeom>
          <a:ln w="0">
            <a:noFill/>
          </a:ln>
        </p:spPr>
      </p:pic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Box 4"/>
          <p:cNvSpPr/>
          <p:nvPr/>
        </p:nvSpPr>
        <p:spPr>
          <a:xfrm>
            <a:off x="622440" y="1557360"/>
            <a:ext cx="8353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别用百分数、小数、分数表示直线上各点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5" name="TextBox 4"/>
          <p:cNvSpPr/>
          <p:nvPr/>
        </p:nvSpPr>
        <p:spPr>
          <a:xfrm>
            <a:off x="1438200" y="3763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6" name="TextBox 11"/>
          <p:cNvSpPr/>
          <p:nvPr/>
        </p:nvSpPr>
        <p:spPr>
          <a:xfrm>
            <a:off x="1343160" y="52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7" name="TextBox 12"/>
          <p:cNvSpPr/>
          <p:nvPr/>
        </p:nvSpPr>
        <p:spPr>
          <a:xfrm>
            <a:off x="2311560" y="52592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8" name="TextBox 13"/>
          <p:cNvSpPr/>
          <p:nvPr/>
        </p:nvSpPr>
        <p:spPr>
          <a:xfrm>
            <a:off x="3492360" y="3794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2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9" name="TextBox 18"/>
          <p:cNvSpPr/>
          <p:nvPr/>
        </p:nvSpPr>
        <p:spPr>
          <a:xfrm>
            <a:off x="3559320" y="52592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4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0" name="TextBox 19"/>
          <p:cNvSpPr/>
          <p:nvPr/>
        </p:nvSpPr>
        <p:spPr>
          <a:xfrm>
            <a:off x="4489560" y="37861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8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1" name="TextBox 24"/>
          <p:cNvSpPr/>
          <p:nvPr/>
        </p:nvSpPr>
        <p:spPr>
          <a:xfrm>
            <a:off x="4471920" y="52592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5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2" name="TextBox 25"/>
          <p:cNvSpPr/>
          <p:nvPr/>
        </p:nvSpPr>
        <p:spPr>
          <a:xfrm>
            <a:off x="5475240" y="380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3" name="TextBox 30"/>
          <p:cNvSpPr/>
          <p:nvPr/>
        </p:nvSpPr>
        <p:spPr>
          <a:xfrm>
            <a:off x="5497560" y="5254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7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4" name="TextBox 31"/>
          <p:cNvSpPr/>
          <p:nvPr/>
        </p:nvSpPr>
        <p:spPr>
          <a:xfrm>
            <a:off x="6665760" y="38116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5" name="TextBox 36"/>
          <p:cNvSpPr/>
          <p:nvPr/>
        </p:nvSpPr>
        <p:spPr>
          <a:xfrm>
            <a:off x="6659640" y="52592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6" name="组合 24591"/>
          <p:cNvGrpSpPr/>
          <p:nvPr/>
        </p:nvGrpSpPr>
        <p:grpSpPr>
          <a:xfrm>
            <a:off x="1476360" y="4344840"/>
            <a:ext cx="504720" cy="815400"/>
            <a:chOff x="1476360" y="4344840"/>
            <a:chExt cx="504720" cy="815400"/>
          </a:xfrm>
        </p:grpSpPr>
        <p:sp>
          <p:nvSpPr>
            <p:cNvPr id="1627" name="文本框 24592"/>
            <p:cNvSpPr/>
            <p:nvPr/>
          </p:nvSpPr>
          <p:spPr>
            <a:xfrm>
              <a:off x="1476360" y="470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8" name="文本框 24593"/>
            <p:cNvSpPr/>
            <p:nvPr/>
          </p:nvSpPr>
          <p:spPr>
            <a:xfrm>
              <a:off x="1542960" y="43448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9" name="直接连接符 24594"/>
            <p:cNvSpPr/>
            <p:nvPr/>
          </p:nvSpPr>
          <p:spPr>
            <a:xfrm>
              <a:off x="1542960" y="4763880"/>
              <a:ext cx="324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0" name="组合 24595"/>
          <p:cNvGrpSpPr/>
          <p:nvPr/>
        </p:nvGrpSpPr>
        <p:grpSpPr>
          <a:xfrm>
            <a:off x="3668760" y="4343400"/>
            <a:ext cx="504720" cy="815400"/>
            <a:chOff x="3668760" y="4343400"/>
            <a:chExt cx="504720" cy="815400"/>
          </a:xfrm>
        </p:grpSpPr>
        <p:sp>
          <p:nvSpPr>
            <p:cNvPr id="1631" name="文本框 24596"/>
            <p:cNvSpPr/>
            <p:nvPr/>
          </p:nvSpPr>
          <p:spPr>
            <a:xfrm>
              <a:off x="3668760" y="4699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2" name="文本框 24597"/>
            <p:cNvSpPr/>
            <p:nvPr/>
          </p:nvSpPr>
          <p:spPr>
            <a:xfrm>
              <a:off x="3735360" y="4343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3" name="直接连接符 24598"/>
            <p:cNvSpPr/>
            <p:nvPr/>
          </p:nvSpPr>
          <p:spPr>
            <a:xfrm>
              <a:off x="3735360" y="4762440"/>
              <a:ext cx="324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4" name="组合 24599"/>
          <p:cNvGrpSpPr/>
          <p:nvPr/>
        </p:nvGrpSpPr>
        <p:grpSpPr>
          <a:xfrm>
            <a:off x="4583160" y="4361040"/>
            <a:ext cx="504720" cy="815040"/>
            <a:chOff x="4583160" y="4361040"/>
            <a:chExt cx="504720" cy="815040"/>
          </a:xfrm>
        </p:grpSpPr>
        <p:sp>
          <p:nvSpPr>
            <p:cNvPr id="1635" name="文本框 24600"/>
            <p:cNvSpPr/>
            <p:nvPr/>
          </p:nvSpPr>
          <p:spPr>
            <a:xfrm>
              <a:off x="4583160" y="4716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6" name="文本框 24601"/>
            <p:cNvSpPr/>
            <p:nvPr/>
          </p:nvSpPr>
          <p:spPr>
            <a:xfrm>
              <a:off x="4591080" y="43610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7" name="直接连接符 24602"/>
            <p:cNvSpPr/>
            <p:nvPr/>
          </p:nvSpPr>
          <p:spPr>
            <a:xfrm>
              <a:off x="4649760" y="47797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8" name="组合 24603"/>
          <p:cNvGrpSpPr/>
          <p:nvPr/>
        </p:nvGrpSpPr>
        <p:grpSpPr>
          <a:xfrm>
            <a:off x="5662440" y="4376880"/>
            <a:ext cx="511200" cy="815040"/>
            <a:chOff x="5662440" y="4376880"/>
            <a:chExt cx="511200" cy="815040"/>
          </a:xfrm>
        </p:grpSpPr>
        <p:sp>
          <p:nvSpPr>
            <p:cNvPr id="1639" name="文本框 24604"/>
            <p:cNvSpPr/>
            <p:nvPr/>
          </p:nvSpPr>
          <p:spPr>
            <a:xfrm>
              <a:off x="5668920" y="4732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0" name="文本框 24605"/>
            <p:cNvSpPr/>
            <p:nvPr/>
          </p:nvSpPr>
          <p:spPr>
            <a:xfrm>
              <a:off x="5662440" y="4376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1" name="直接连接符 24606"/>
            <p:cNvSpPr/>
            <p:nvPr/>
          </p:nvSpPr>
          <p:spPr>
            <a:xfrm>
              <a:off x="5707080" y="4795920"/>
              <a:ext cx="252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42" name="组合 24607"/>
          <p:cNvGrpSpPr/>
          <p:nvPr/>
        </p:nvGrpSpPr>
        <p:grpSpPr>
          <a:xfrm>
            <a:off x="6765840" y="4359240"/>
            <a:ext cx="504720" cy="815400"/>
            <a:chOff x="6765840" y="4359240"/>
            <a:chExt cx="504720" cy="815400"/>
          </a:xfrm>
        </p:grpSpPr>
        <p:sp>
          <p:nvSpPr>
            <p:cNvPr id="1643" name="文本框 24608"/>
            <p:cNvSpPr/>
            <p:nvPr/>
          </p:nvSpPr>
          <p:spPr>
            <a:xfrm>
              <a:off x="6765840" y="4714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4" name="文本框 24609"/>
            <p:cNvSpPr/>
            <p:nvPr/>
          </p:nvSpPr>
          <p:spPr>
            <a:xfrm>
              <a:off x="6773760" y="43592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5" name="直接连接符 24610"/>
            <p:cNvSpPr/>
            <p:nvPr/>
          </p:nvSpPr>
          <p:spPr>
            <a:xfrm>
              <a:off x="6832440" y="47782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Box 5"/>
          <p:cNvSpPr/>
          <p:nvPr/>
        </p:nvSpPr>
        <p:spPr>
          <a:xfrm>
            <a:off x="395280" y="141300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据医学测试，人静止不动时，从头部散失的热量很多。在穿得暖和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但不戴帽子，气温为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 ℃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，从头部散失的热量占人体散失总热量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 ℃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占     ，零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 ℃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占     。因此，有句俗话说“冬季戴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帽，如同穿棉袄”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8" name="组合 25603"/>
          <p:cNvGrpSpPr/>
          <p:nvPr/>
        </p:nvGrpSpPr>
        <p:grpSpPr>
          <a:xfrm>
            <a:off x="2532240" y="2254320"/>
            <a:ext cx="510480" cy="815400"/>
            <a:chOff x="2532240" y="2254320"/>
            <a:chExt cx="510480" cy="815400"/>
          </a:xfrm>
        </p:grpSpPr>
        <p:sp>
          <p:nvSpPr>
            <p:cNvPr id="1649" name="文本框 25604"/>
            <p:cNvSpPr/>
            <p:nvPr/>
          </p:nvSpPr>
          <p:spPr>
            <a:xfrm>
              <a:off x="2538000" y="2610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0" name="文本框 25605"/>
            <p:cNvSpPr/>
            <p:nvPr/>
          </p:nvSpPr>
          <p:spPr>
            <a:xfrm>
              <a:off x="2532240" y="225432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1" name="直接连接符 25606"/>
            <p:cNvSpPr/>
            <p:nvPr/>
          </p:nvSpPr>
          <p:spPr>
            <a:xfrm>
              <a:off x="2576160" y="2673720"/>
              <a:ext cx="252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2" name="组合 25607"/>
          <p:cNvGrpSpPr/>
          <p:nvPr/>
        </p:nvGrpSpPr>
        <p:grpSpPr>
          <a:xfrm>
            <a:off x="4788000" y="2249640"/>
            <a:ext cx="511200" cy="815040"/>
            <a:chOff x="4788000" y="2249640"/>
            <a:chExt cx="511200" cy="815040"/>
          </a:xfrm>
        </p:grpSpPr>
        <p:sp>
          <p:nvSpPr>
            <p:cNvPr id="1653" name="文本框 25608"/>
            <p:cNvSpPr/>
            <p:nvPr/>
          </p:nvSpPr>
          <p:spPr>
            <a:xfrm>
              <a:off x="4794120" y="26049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4" name="文本框 25609"/>
            <p:cNvSpPr/>
            <p:nvPr/>
          </p:nvSpPr>
          <p:spPr>
            <a:xfrm>
              <a:off x="4788000" y="2249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55" name="直接连接符 25610"/>
            <p:cNvSpPr/>
            <p:nvPr/>
          </p:nvSpPr>
          <p:spPr>
            <a:xfrm>
              <a:off x="4832280" y="266868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6" name="组合 25611"/>
          <p:cNvGrpSpPr/>
          <p:nvPr/>
        </p:nvGrpSpPr>
        <p:grpSpPr>
          <a:xfrm>
            <a:off x="4356000" y="3213000"/>
            <a:ext cx="4524480" cy="1800360"/>
            <a:chOff x="4356000" y="3213000"/>
            <a:chExt cx="4524480" cy="1800360"/>
          </a:xfrm>
        </p:grpSpPr>
        <p:sp>
          <p:nvSpPr>
            <p:cNvPr id="1657" name="AutoShape 27"/>
            <p:cNvSpPr/>
            <p:nvPr/>
          </p:nvSpPr>
          <p:spPr>
            <a:xfrm>
              <a:off x="4356000" y="3213000"/>
              <a:ext cx="3095640" cy="936720"/>
            </a:xfrm>
            <a:prstGeom prst="wedgeRoundRectCallout">
              <a:avLst>
                <a:gd name="adj1" fmla="val 60412"/>
                <a:gd name="adj2" fmla="val -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上面的哪个气温时从头部散失的热量最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58" name="图片 25613" descr="49"/>
            <p:cNvPicPr/>
            <p:nvPr/>
          </p:nvPicPr>
          <p:blipFill>
            <a:blip r:embed="rId1"/>
            <a:stretch/>
          </p:blipFill>
          <p:spPr>
            <a:xfrm>
              <a:off x="7451640" y="321480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9" name="矩形 45"/>
          <p:cNvSpPr/>
          <p:nvPr/>
        </p:nvSpPr>
        <p:spPr>
          <a:xfrm>
            <a:off x="93816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60" name="组合 25615"/>
          <p:cNvGrpSpPr/>
          <p:nvPr/>
        </p:nvGrpSpPr>
        <p:grpSpPr>
          <a:xfrm>
            <a:off x="614520" y="3429000"/>
            <a:ext cx="5010120" cy="2594880"/>
            <a:chOff x="614520" y="3429000"/>
            <a:chExt cx="5010120" cy="2594880"/>
          </a:xfrm>
        </p:grpSpPr>
        <p:sp>
          <p:nvSpPr>
            <p:cNvPr id="1661" name="TextBox 59"/>
            <p:cNvSpPr/>
            <p:nvPr/>
          </p:nvSpPr>
          <p:spPr>
            <a:xfrm>
              <a:off x="657360" y="5564160"/>
              <a:ext cx="49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答：零下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℃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时，头部散失的热量最多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2" name="组合 25617"/>
            <p:cNvGrpSpPr/>
            <p:nvPr/>
          </p:nvGrpSpPr>
          <p:grpSpPr>
            <a:xfrm>
              <a:off x="614520" y="3429000"/>
              <a:ext cx="3743280" cy="1036800"/>
              <a:chOff x="614520" y="3429000"/>
              <a:chExt cx="3743280" cy="1036800"/>
            </a:xfrm>
          </p:grpSpPr>
          <p:sp>
            <p:nvSpPr>
              <p:cNvPr id="1663" name="TextBox 22"/>
              <p:cNvSpPr/>
              <p:nvPr/>
            </p:nvSpPr>
            <p:spPr>
              <a:xfrm>
                <a:off x="614520" y="3567240"/>
                <a:ext cx="374328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宋体"/>
                    <a:ea typeface="宋体"/>
                  </a:rPr>
                  <a:t>方法一：</a:t>
                </a: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宋体"/>
                  </a:rPr>
                  <a:t>30</a:t>
                </a: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Times New Roman"/>
                    <a:ea typeface="宋体"/>
                  </a:rPr>
                  <a:t>%</a:t>
                </a:r>
                <a:r>
                  <a:rPr b="0" i="1" lang="zh-CN" sz="24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4" name="文本框 25619"/>
              <p:cNvSpPr/>
              <p:nvPr/>
            </p:nvSpPr>
            <p:spPr>
              <a:xfrm>
                <a:off x="2533680" y="378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5" name="文本框 25620"/>
              <p:cNvSpPr/>
              <p:nvPr/>
            </p:nvSpPr>
            <p:spPr>
              <a:xfrm>
                <a:off x="260028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6" name="直接连接符 25621"/>
              <p:cNvSpPr/>
              <p:nvPr/>
            </p:nvSpPr>
            <p:spPr>
              <a:xfrm>
                <a:off x="2617920" y="384804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7" name="组合 25622"/>
            <p:cNvGrpSpPr/>
            <p:nvPr/>
          </p:nvGrpSpPr>
          <p:grpSpPr>
            <a:xfrm>
              <a:off x="1658880" y="4726080"/>
              <a:ext cx="2184480" cy="815400"/>
              <a:chOff x="1658880" y="4726080"/>
              <a:chExt cx="2184480" cy="815400"/>
            </a:xfrm>
          </p:grpSpPr>
          <p:sp>
            <p:nvSpPr>
              <p:cNvPr id="1668" name="文本框 25623"/>
              <p:cNvSpPr/>
              <p:nvPr/>
            </p:nvSpPr>
            <p:spPr>
              <a:xfrm>
                <a:off x="2452680" y="508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69" name="组合 25624"/>
              <p:cNvGrpSpPr/>
              <p:nvPr/>
            </p:nvGrpSpPr>
            <p:grpSpPr>
              <a:xfrm>
                <a:off x="1658880" y="4726080"/>
                <a:ext cx="2184480" cy="815400"/>
                <a:chOff x="1658880" y="4726080"/>
                <a:chExt cx="2184480" cy="815400"/>
              </a:xfrm>
            </p:grpSpPr>
            <p:grpSp>
              <p:nvGrpSpPr>
                <p:cNvPr id="1670" name="组合 25625"/>
                <p:cNvGrpSpPr/>
                <p:nvPr/>
              </p:nvGrpSpPr>
              <p:grpSpPr>
                <a:xfrm>
                  <a:off x="1658880" y="4726080"/>
                  <a:ext cx="2184480" cy="815400"/>
                  <a:chOff x="1658880" y="4726080"/>
                  <a:chExt cx="2184480" cy="815400"/>
                </a:xfrm>
              </p:grpSpPr>
              <p:sp>
                <p:nvSpPr>
                  <p:cNvPr id="1671" name="矩形 58"/>
                  <p:cNvSpPr/>
                  <p:nvPr/>
                </p:nvSpPr>
                <p:spPr>
                  <a:xfrm>
                    <a:off x="3102120" y="4924440"/>
                    <a:ext cx="741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ff0000"/>
                        </a:solidFill>
                        <a:uFillTx/>
                        <a:latin typeface="Arial"/>
                        <a:ea typeface="宋体"/>
                      </a:rPr>
                      <a:t>30</a:t>
                    </a:r>
                    <a:r>
                      <a:rPr b="0" i="1" lang="en-US" sz="2000" spc="-1" strike="noStrike" u="sng">
                        <a:solidFill>
                          <a:srgbClr val="ff0000"/>
                        </a:solidFill>
                        <a:uFillTx/>
                        <a:latin typeface="Times New Roman"/>
                        <a:ea typeface="宋体"/>
                      </a:rPr>
                      <a:t>%</a:t>
                    </a:r>
                    <a:r>
                      <a:rPr b="0" i="1" lang="en-US" sz="2000" spc="-1" strike="noStrike" u="sng">
                        <a:solidFill>
                          <a:srgbClr val="ff0000"/>
                        </a:solidFill>
                        <a:uFillTx/>
                        <a:latin typeface="宋体"/>
                        <a:ea typeface="宋体"/>
                      </a:rPr>
                      <a:t> 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2" name="文本框 25627"/>
                  <p:cNvSpPr/>
                  <p:nvPr/>
                </p:nvSpPr>
                <p:spPr>
                  <a:xfrm>
                    <a:off x="1665360" y="50817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ff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3" name="文本框 25628"/>
                  <p:cNvSpPr/>
                  <p:nvPr/>
                </p:nvSpPr>
                <p:spPr>
                  <a:xfrm>
                    <a:off x="1658880" y="47260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ff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4" name="直接连接符 25629"/>
                  <p:cNvSpPr/>
                  <p:nvPr/>
                </p:nvSpPr>
                <p:spPr>
                  <a:xfrm>
                    <a:off x="1703520" y="514512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5" name="文本框 25630"/>
                  <p:cNvSpPr/>
                  <p:nvPr/>
                </p:nvSpPr>
                <p:spPr>
                  <a:xfrm>
                    <a:off x="2446200" y="47260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ff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6" name="直接连接符 25631"/>
                  <p:cNvSpPr/>
                  <p:nvPr/>
                </p:nvSpPr>
                <p:spPr>
                  <a:xfrm>
                    <a:off x="2490840" y="514512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77" name="TextBox 51"/>
                  <p:cNvSpPr/>
                  <p:nvPr/>
                </p:nvSpPr>
                <p:spPr>
                  <a:xfrm>
                    <a:off x="1968480" y="4869000"/>
                    <a:ext cx="936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ff0000"/>
                        </a:solidFill>
                        <a:uFillTx/>
                        <a:latin typeface="楷体_GB2312"/>
                        <a:ea typeface="楷体_GB2312"/>
                      </a:rPr>
                      <a:t>＞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678" name="矩形 57"/>
                <p:cNvSpPr/>
                <p:nvPr/>
              </p:nvSpPr>
              <p:spPr>
                <a:xfrm>
                  <a:off x="2836080" y="491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ff0000"/>
                      </a:solidFill>
                      <a:uFillTx/>
                      <a:latin typeface="楷体_GB2312"/>
                      <a:ea typeface="楷体_GB2312"/>
                    </a:rPr>
                    <a:t>＞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679" name="组合 25634"/>
            <p:cNvGrpSpPr/>
            <p:nvPr/>
          </p:nvGrpSpPr>
          <p:grpSpPr>
            <a:xfrm>
              <a:off x="1641600" y="4006800"/>
              <a:ext cx="2000160" cy="824760"/>
              <a:chOff x="1641600" y="4006800"/>
              <a:chExt cx="2000160" cy="824760"/>
            </a:xfrm>
          </p:grpSpPr>
          <p:sp>
            <p:nvSpPr>
              <p:cNvPr id="1680" name="文本框 25635"/>
              <p:cNvSpPr/>
              <p:nvPr/>
            </p:nvSpPr>
            <p:spPr>
              <a:xfrm>
                <a:off x="1647720" y="43718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1" name="文本框 25636"/>
              <p:cNvSpPr/>
              <p:nvPr/>
            </p:nvSpPr>
            <p:spPr>
              <a:xfrm>
                <a:off x="1641600" y="4016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2" name="直接连接符 25637"/>
              <p:cNvSpPr/>
              <p:nvPr/>
            </p:nvSpPr>
            <p:spPr>
              <a:xfrm>
                <a:off x="1685880" y="4435560"/>
                <a:ext cx="252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文本框 25638"/>
              <p:cNvSpPr/>
              <p:nvPr/>
            </p:nvSpPr>
            <p:spPr>
              <a:xfrm>
                <a:off x="2435400" y="4371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文本框 25639"/>
              <p:cNvSpPr/>
              <p:nvPr/>
            </p:nvSpPr>
            <p:spPr>
              <a:xfrm>
                <a:off x="2428920" y="4016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5" name="直接连接符 25640"/>
              <p:cNvSpPr/>
              <p:nvPr/>
            </p:nvSpPr>
            <p:spPr>
              <a:xfrm>
                <a:off x="2473200" y="4435560"/>
                <a:ext cx="252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6" name="TextBox 33"/>
              <p:cNvSpPr/>
              <p:nvPr/>
            </p:nvSpPr>
            <p:spPr>
              <a:xfrm>
                <a:off x="1974960" y="4146480"/>
                <a:ext cx="93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＞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7" name="矩形 39"/>
              <p:cNvSpPr/>
              <p:nvPr/>
            </p:nvSpPr>
            <p:spPr>
              <a:xfrm>
                <a:off x="2840760" y="41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＞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文本框 25643"/>
              <p:cNvSpPr/>
              <p:nvPr/>
            </p:nvSpPr>
            <p:spPr>
              <a:xfrm>
                <a:off x="3137040" y="4362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文本框 25644"/>
              <p:cNvSpPr/>
              <p:nvPr/>
            </p:nvSpPr>
            <p:spPr>
              <a:xfrm>
                <a:off x="3203640" y="4006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0" name="直接连接符 25645"/>
              <p:cNvSpPr/>
              <p:nvPr/>
            </p:nvSpPr>
            <p:spPr>
              <a:xfrm>
                <a:off x="3220920" y="4425840"/>
                <a:ext cx="2872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395280" y="141300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据医学测试，人静止不动时，从头部散失的热量很多。在穿得暖和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但不戴帽子，气温为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 ℃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，从头部散失的热量占人体散失总热量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 ℃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占     ，零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 ℃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占     。因此，有句俗话说“冬季戴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帽，如同穿棉袄”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3" name="组合 26627"/>
          <p:cNvGrpSpPr/>
          <p:nvPr/>
        </p:nvGrpSpPr>
        <p:grpSpPr>
          <a:xfrm>
            <a:off x="2532240" y="2254320"/>
            <a:ext cx="510480" cy="815400"/>
            <a:chOff x="2532240" y="2254320"/>
            <a:chExt cx="510480" cy="815400"/>
          </a:xfrm>
        </p:grpSpPr>
        <p:sp>
          <p:nvSpPr>
            <p:cNvPr id="1694" name="文本框 26628"/>
            <p:cNvSpPr/>
            <p:nvPr/>
          </p:nvSpPr>
          <p:spPr>
            <a:xfrm>
              <a:off x="2538000" y="2610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5" name="文本框 26629"/>
            <p:cNvSpPr/>
            <p:nvPr/>
          </p:nvSpPr>
          <p:spPr>
            <a:xfrm>
              <a:off x="2532240" y="225432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6" name="直接连接符 26630"/>
            <p:cNvSpPr/>
            <p:nvPr/>
          </p:nvSpPr>
          <p:spPr>
            <a:xfrm>
              <a:off x="2576160" y="2673720"/>
              <a:ext cx="252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97" name="组合 26631"/>
          <p:cNvGrpSpPr/>
          <p:nvPr/>
        </p:nvGrpSpPr>
        <p:grpSpPr>
          <a:xfrm>
            <a:off x="4832280" y="2249640"/>
            <a:ext cx="511200" cy="815040"/>
            <a:chOff x="4832280" y="2249640"/>
            <a:chExt cx="511200" cy="815040"/>
          </a:xfrm>
        </p:grpSpPr>
        <p:sp>
          <p:nvSpPr>
            <p:cNvPr id="1698" name="文本框 26632"/>
            <p:cNvSpPr/>
            <p:nvPr/>
          </p:nvSpPr>
          <p:spPr>
            <a:xfrm>
              <a:off x="4838400" y="26049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9" name="文本框 26633"/>
            <p:cNvSpPr/>
            <p:nvPr/>
          </p:nvSpPr>
          <p:spPr>
            <a:xfrm>
              <a:off x="4832280" y="2249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0" name="直接连接符 26634"/>
            <p:cNvSpPr/>
            <p:nvPr/>
          </p:nvSpPr>
          <p:spPr>
            <a:xfrm>
              <a:off x="4876560" y="266868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1" name="组合 26635"/>
          <p:cNvGrpSpPr/>
          <p:nvPr/>
        </p:nvGrpSpPr>
        <p:grpSpPr>
          <a:xfrm>
            <a:off x="4619520" y="2997360"/>
            <a:ext cx="4524480" cy="1799640"/>
            <a:chOff x="4619520" y="2997360"/>
            <a:chExt cx="4524480" cy="1799640"/>
          </a:xfrm>
        </p:grpSpPr>
        <p:sp>
          <p:nvSpPr>
            <p:cNvPr id="1702" name="AutoShape 27"/>
            <p:cNvSpPr/>
            <p:nvPr/>
          </p:nvSpPr>
          <p:spPr>
            <a:xfrm>
              <a:off x="4619520" y="2997360"/>
              <a:ext cx="3095640" cy="936360"/>
            </a:xfrm>
            <a:prstGeom prst="wedgeRoundRectCallout">
              <a:avLst>
                <a:gd name="adj1" fmla="val 60412"/>
                <a:gd name="adj2" fmla="val -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上面的哪个气温时从头部散失的热量最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03" name="图片 26637" descr="49"/>
            <p:cNvPicPr/>
            <p:nvPr/>
          </p:nvPicPr>
          <p:blipFill>
            <a:blip r:embed="rId1"/>
            <a:stretch/>
          </p:blipFill>
          <p:spPr>
            <a:xfrm>
              <a:off x="7715160" y="2998800"/>
              <a:ext cx="1428840" cy="179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4" name="矩形 45"/>
          <p:cNvSpPr/>
          <p:nvPr/>
        </p:nvSpPr>
        <p:spPr>
          <a:xfrm>
            <a:off x="6194520" y="609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05" name="组合 26639"/>
          <p:cNvGrpSpPr/>
          <p:nvPr/>
        </p:nvGrpSpPr>
        <p:grpSpPr>
          <a:xfrm>
            <a:off x="704880" y="3429000"/>
            <a:ext cx="6675480" cy="2336040"/>
            <a:chOff x="704880" y="3429000"/>
            <a:chExt cx="6675480" cy="2336040"/>
          </a:xfrm>
        </p:grpSpPr>
        <p:sp>
          <p:nvSpPr>
            <p:cNvPr id="1706" name="TextBox 22"/>
            <p:cNvSpPr/>
            <p:nvPr/>
          </p:nvSpPr>
          <p:spPr>
            <a:xfrm>
              <a:off x="969840" y="4214880"/>
              <a:ext cx="64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 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＞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＞ 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0 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7" name="TextBox 59"/>
            <p:cNvSpPr/>
            <p:nvPr/>
          </p:nvSpPr>
          <p:spPr>
            <a:xfrm>
              <a:off x="704880" y="5305320"/>
              <a:ext cx="62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答：零下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宋体"/>
                </a:rPr>
                <a:t>15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℃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时，头部散失的热量最多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8" name="矩形 2"/>
            <p:cNvSpPr/>
            <p:nvPr/>
          </p:nvSpPr>
          <p:spPr>
            <a:xfrm>
              <a:off x="885960" y="35607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方法二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09" name="组合 26643"/>
            <p:cNvGrpSpPr/>
            <p:nvPr/>
          </p:nvGrpSpPr>
          <p:grpSpPr>
            <a:xfrm>
              <a:off x="1806480" y="3429000"/>
              <a:ext cx="2890800" cy="815400"/>
              <a:chOff x="1806480" y="3429000"/>
              <a:chExt cx="2890800" cy="815400"/>
            </a:xfrm>
          </p:grpSpPr>
          <p:sp>
            <p:nvSpPr>
              <p:cNvPr id="1710" name="文本框 26644"/>
              <p:cNvSpPr/>
              <p:nvPr/>
            </p:nvSpPr>
            <p:spPr>
              <a:xfrm>
                <a:off x="311292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11" name="组合 26645"/>
              <p:cNvGrpSpPr/>
              <p:nvPr/>
            </p:nvGrpSpPr>
            <p:grpSpPr>
              <a:xfrm>
                <a:off x="1806480" y="3429000"/>
                <a:ext cx="2890800" cy="815400"/>
                <a:chOff x="1806480" y="3429000"/>
                <a:chExt cx="2890800" cy="815400"/>
              </a:xfrm>
            </p:grpSpPr>
            <p:sp>
              <p:nvSpPr>
                <p:cNvPr id="1712" name="文本框 26646"/>
                <p:cNvSpPr/>
                <p:nvPr/>
              </p:nvSpPr>
              <p:spPr>
                <a:xfrm>
                  <a:off x="1812960" y="378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3" name="文本框 26647"/>
                <p:cNvSpPr/>
                <p:nvPr/>
              </p:nvSpPr>
              <p:spPr>
                <a:xfrm>
                  <a:off x="1806480" y="3429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4" name="直接连接符 26648"/>
                <p:cNvSpPr/>
                <p:nvPr/>
              </p:nvSpPr>
              <p:spPr>
                <a:xfrm>
                  <a:off x="1851120" y="3848040"/>
                  <a:ext cx="2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5" name="文本框 26649"/>
                <p:cNvSpPr/>
                <p:nvPr/>
              </p:nvSpPr>
              <p:spPr>
                <a:xfrm>
                  <a:off x="2038320" y="3584520"/>
                  <a:ext cx="1352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ff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60</a:t>
                  </a: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宋体"/>
                    </a:rPr>
                    <a:t>%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6" name="文本框 26650"/>
                <p:cNvSpPr/>
                <p:nvPr/>
              </p:nvSpPr>
              <p:spPr>
                <a:xfrm>
                  <a:off x="3119400" y="378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7" name="直接连接符 26651"/>
                <p:cNvSpPr/>
                <p:nvPr/>
              </p:nvSpPr>
              <p:spPr>
                <a:xfrm>
                  <a:off x="3157560" y="3848040"/>
                  <a:ext cx="2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18" name="文本框 26652"/>
                <p:cNvSpPr/>
                <p:nvPr/>
              </p:nvSpPr>
              <p:spPr>
                <a:xfrm>
                  <a:off x="3344760" y="3584520"/>
                  <a:ext cx="1352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ff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75</a:t>
                  </a: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宋体"/>
                    </a:rPr>
                    <a:t>%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719" name="组合 26653"/>
            <p:cNvGrpSpPr/>
            <p:nvPr/>
          </p:nvGrpSpPr>
          <p:grpSpPr>
            <a:xfrm>
              <a:off x="1763640" y="4621320"/>
              <a:ext cx="2184480" cy="815040"/>
              <a:chOff x="1763640" y="4621320"/>
              <a:chExt cx="2184480" cy="815040"/>
            </a:xfrm>
          </p:grpSpPr>
          <p:grpSp>
            <p:nvGrpSpPr>
              <p:cNvPr id="1720" name="组合 26654"/>
              <p:cNvGrpSpPr/>
              <p:nvPr/>
            </p:nvGrpSpPr>
            <p:grpSpPr>
              <a:xfrm>
                <a:off x="1763640" y="4621320"/>
                <a:ext cx="2184480" cy="815040"/>
                <a:chOff x="1763640" y="4621320"/>
                <a:chExt cx="2184480" cy="815040"/>
              </a:xfrm>
            </p:grpSpPr>
            <p:sp>
              <p:nvSpPr>
                <p:cNvPr id="1721" name="矩形 58"/>
                <p:cNvSpPr/>
                <p:nvPr/>
              </p:nvSpPr>
              <p:spPr>
                <a:xfrm>
                  <a:off x="3206880" y="4819680"/>
                  <a:ext cx="74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宋体"/>
                    </a:rPr>
                    <a:t>30</a:t>
                  </a: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宋体"/>
                    </a:rPr>
                    <a:t>%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2" name="文本框 26656"/>
                <p:cNvSpPr/>
                <p:nvPr/>
              </p:nvSpPr>
              <p:spPr>
                <a:xfrm>
                  <a:off x="1770120" y="4976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3" name="文本框 26657"/>
                <p:cNvSpPr/>
                <p:nvPr/>
              </p:nvSpPr>
              <p:spPr>
                <a:xfrm>
                  <a:off x="1763640" y="46213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4" name="直接连接符 26658"/>
                <p:cNvSpPr/>
                <p:nvPr/>
              </p:nvSpPr>
              <p:spPr>
                <a:xfrm>
                  <a:off x="1808280" y="5040360"/>
                  <a:ext cx="2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5" name="文本框 26659"/>
                <p:cNvSpPr/>
                <p:nvPr/>
              </p:nvSpPr>
              <p:spPr>
                <a:xfrm>
                  <a:off x="2557440" y="4976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6" name="文本框 26660"/>
                <p:cNvSpPr/>
                <p:nvPr/>
              </p:nvSpPr>
              <p:spPr>
                <a:xfrm>
                  <a:off x="2550960" y="46213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ff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27" name="直接连接符 26661"/>
                <p:cNvSpPr/>
                <p:nvPr/>
              </p:nvSpPr>
              <p:spPr>
                <a:xfrm>
                  <a:off x="2595600" y="5040360"/>
                  <a:ext cx="2523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28" name="TextBox 51"/>
              <p:cNvSpPr/>
              <p:nvPr/>
            </p:nvSpPr>
            <p:spPr>
              <a:xfrm>
                <a:off x="2073240" y="4764240"/>
                <a:ext cx="5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＞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9" name="矩形 57"/>
              <p:cNvSpPr/>
              <p:nvPr/>
            </p:nvSpPr>
            <p:spPr>
              <a:xfrm>
                <a:off x="2940840" y="480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＞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30" name="组合 26664"/>
          <p:cNvGrpSpPr/>
          <p:nvPr/>
        </p:nvGrpSpPr>
        <p:grpSpPr>
          <a:xfrm>
            <a:off x="5076720" y="4724280"/>
            <a:ext cx="4067280" cy="1703520"/>
            <a:chOff x="5076720" y="4724280"/>
            <a:chExt cx="4067280" cy="1703520"/>
          </a:xfrm>
        </p:grpSpPr>
        <p:sp>
          <p:nvSpPr>
            <p:cNvPr id="1731" name="AutoShape 27"/>
            <p:cNvSpPr/>
            <p:nvPr/>
          </p:nvSpPr>
          <p:spPr>
            <a:xfrm>
              <a:off x="5076720" y="4724280"/>
              <a:ext cx="2868840" cy="576360"/>
            </a:xfrm>
            <a:prstGeom prst="wedgeRoundRectCallout">
              <a:avLst>
                <a:gd name="adj1" fmla="val 38986"/>
                <a:gd name="adj2" fmla="val 108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怎样比较更快一些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32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620120" y="5013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1:04Z</dcterms:modified>
  <cp:revision>3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